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267-057A-4FFF-8955-EDEF8B4B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12F-439A-42A8-931D-C5977F1C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DE7-FAF1-4A01-9639-6B4D2CE9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060D-647E-4CED-8B51-8D67E53A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0C56-C691-4B86-90E0-B3942B75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6134-B00B-4B55-A7E5-E0B4B6C4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C028-C740-42F3-B233-C080129E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3307-9524-41A8-9C48-2E4783A9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4A83-1F18-4829-B3AC-6C5EFA79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AB55-ECE6-474B-9007-C3740C15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439A-4A64-4804-BEB5-B986001E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DA1-2B43-4DC4-847D-7D5110FA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0A4D-1B5D-45AC-94C9-0D80EAFC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40E1-6957-41DD-9B0F-A1F8F47B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819C-9903-491E-9E11-1586FEEF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7BF8-57AB-4F2D-9650-F9D86BF1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D385-1861-46A5-BCBF-03875DEA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CC32D-461C-4150-AFBB-56EC7AFC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C817F-75BC-4F98-88B7-07320F29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26091-C0ED-4C6C-9BD2-565E2F5A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B7B4D-65CB-4C78-BB2C-508ECEAF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45831-BD6D-4F53-B1DF-A17668E1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4CA-6F77-4FCF-8385-0C40A970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61B69-B796-4F59-9530-C804B652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EB28B-7B9E-433E-A706-D12E580F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7DC34-94F3-44C1-91B7-BA16F998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E0A10-A410-47F7-9C2A-8F300FF3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7C2D5-55CE-4ECC-AF1C-9AB1DA5D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0B476-FD7C-48DA-9270-9CB00070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24E19-58CF-48BA-B597-87FC86B1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9DDD-204C-420A-A169-5C2214AD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6CB-A94B-43BE-A8D3-257AB577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5805-0B4D-41BD-9A6A-9B72FFCA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E3BF-A1BD-45F5-87CC-916EA6AD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B5B-4E28-4FD3-B209-1801D5F7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56BB-4CD5-469D-9D73-28C54443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2207-0161-41BE-A1A3-E102A804F572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piering, ApPEC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0F04-45BD-4082-B7C4-D2A94D62A59A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CC61-DA6D-4117-931E-F426434669A4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piering, ApPEC etc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BDD4-BFE8-49D0-9B2D-65F3916F6A1A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66B5-6DD0-4B8E-B440-86AF54C75A76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7500-9365-4328-B679-A8296612F5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189000"/>
            <a:ext cx="8785440" cy="532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692280"/>
            <a:ext cx="8280360" cy="44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uropean Roadmap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 Astroparticle Physic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pPEC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FBC4-1B4E-4BB1-811F-1F616F699150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DCB83-E16D-4ABB-9CA4-40E0E95DA251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35280" y="765000"/>
            <a:ext cx="57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What will 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included ?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928080" y="4005360"/>
            <a:ext cx="735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confuse this with the ques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What belongs to Astroparticle Physics?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no unique answer to this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549-EA6A-42F4-BD72-E8D2870F93D9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B745E-8051-4434-BE56-35A8C1F79C71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1044720" y="4149720"/>
            <a:ext cx="11017440" cy="489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836640"/>
            <a:ext cx="792360" cy="27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558400">
            <a:off x="1692000" y="4869000"/>
            <a:ext cx="86364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260000">
            <a:off x="6443280" y="5157720"/>
            <a:ext cx="86364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95640" y="4653000"/>
            <a:ext cx="86364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0347200">
            <a:off x="1331640" y="4437000"/>
            <a:ext cx="215640" cy="144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0766600">
            <a:off x="1692360" y="4365720"/>
            <a:ext cx="215640" cy="144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21063600">
            <a:off x="2050560" y="4220640"/>
            <a:ext cx="216000" cy="14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21140400">
            <a:off x="2411280" y="4149720"/>
            <a:ext cx="216000" cy="144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1107400">
            <a:off x="1618920" y="4005000"/>
            <a:ext cx="504720" cy="155520"/>
          </a:xfrm>
          <a:custGeom>
            <a:avLst/>
            <a:gdLst/>
            <a:ahLst/>
            <a:rect l="l" t="t" r="r" b="b"/>
            <a:pathLst>
              <a:path w="227" h="98">
                <a:moveTo>
                  <a:pt x="0" y="45"/>
                </a:moveTo>
                <a:cubicBezTo>
                  <a:pt x="49" y="71"/>
                  <a:pt x="98" y="98"/>
                  <a:pt x="136" y="91"/>
                </a:cubicBezTo>
                <a:cubicBezTo>
                  <a:pt x="174" y="84"/>
                  <a:pt x="200" y="42"/>
                  <a:pt x="227" y="0"/>
                </a:cubicBezTo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8000" y="4149720"/>
            <a:ext cx="71640" cy="28728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692360" y="3716280"/>
            <a:ext cx="71280" cy="36036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63640" y="3716280"/>
            <a:ext cx="287280" cy="2890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18520" y="351000"/>
            <a:ext cx="32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Charged Cosmic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GeV-TeV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(incl. DM in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-324000" y="5300640"/>
            <a:ext cx="194328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06560" y="5445000"/>
            <a:ext cx="26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HE neutr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atm. neutr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(incl. DM in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20542200">
            <a:off x="4643280" y="3860640"/>
            <a:ext cx="720720" cy="71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01080" y="2492280"/>
            <a:ext cx="627120" cy="576360"/>
          </a:xfrm>
          <a:custGeom>
            <a:avLst/>
            <a:gdLst>
              <a:gd name="textAreaLeft" fmla="*/ 142920 w 627120"/>
              <a:gd name="textAreaRight" fmla="*/ 484200 w 62712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580000" y="2924280"/>
            <a:ext cx="2448000" cy="7920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0631600">
            <a:off x="5870160" y="2707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Solar ax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2440" y="4869000"/>
            <a:ext cx="15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nder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nde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9440" y="3645000"/>
            <a:ext cx="161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Franklin Gothic Medium"/>
              </a:rPr>
              <a:t>i.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Franklin Gothic Medium"/>
              </a:rPr>
              <a:t>Hess, A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20614200">
            <a:off x="4482720" y="349992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Franklin Gothic Medium"/>
              </a:rPr>
              <a:t>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15720" y="472428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G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634920" y="2636640"/>
            <a:ext cx="576360" cy="194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41040" y="515772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DM 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093080" y="3141360"/>
            <a:ext cx="1150920" cy="19429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36800" y="494172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G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37480" y="5661000"/>
            <a:ext cx="196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Solar </a:t>
            </a:r>
            <a:r>
              <a:rPr b="0" lang="de-DE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Supernova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70520" y="2133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WI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59280" y="3933720"/>
            <a:ext cx="0" cy="216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3860640"/>
            <a:ext cx="0" cy="2890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788000" y="189000"/>
            <a:ext cx="4356000" cy="2133000"/>
            <a:chOff x="4788000" y="189000"/>
            <a:chExt cx="4356000" cy="2133000"/>
          </a:xfrm>
        </p:grpSpPr>
        <p:sp>
          <p:nvSpPr>
            <p:cNvPr id="176" name=""/>
            <p:cNvSpPr/>
            <p:nvPr/>
          </p:nvSpPr>
          <p:spPr>
            <a:xfrm>
              <a:off x="6372360" y="333360"/>
              <a:ext cx="555480" cy="358920"/>
            </a:xfrm>
            <a:prstGeom prst="flowChartOnlineStorag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659280" y="189000"/>
              <a:ext cx="144360" cy="215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372000" y="620640"/>
              <a:ext cx="144360" cy="2160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75200" y="309600"/>
              <a:ext cx="11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Franklin Gothic Medium"/>
                </a:rPr>
                <a:t>satell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8000" y="765000"/>
              <a:ext cx="4356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MeV/GeV </a:t>
              </a:r>
              <a:r>
                <a:rPr b="0" lang="de-DE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 (Agile, Gl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MeV/GeV CR (Pamela, AM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CR @ extreme energies (EUS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56D3-CDD6-4AEA-BDEE-6EF40805AD7A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0DB28-9372-4032-9588-C5629681811A}" type="datetime1">
              <a:rPr lang="en-US"/>
              <a:t>07/31/26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-1044720" y="4149720"/>
            <a:ext cx="11017440" cy="489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0558400">
            <a:off x="1115640" y="5084640"/>
            <a:ext cx="86364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90520" y="620640"/>
            <a:ext cx="56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o particles from heaven 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 same infrastructure  (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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losely related question (tritium dec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61080" y="5516640"/>
            <a:ext cx="7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Symbol"/>
                <a:ea typeface="Symbol"/>
              </a:rPr>
              <a:t>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0440" y="530064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G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520080" y="4125960"/>
            <a:ext cx="5702760" cy="1857240"/>
            <a:chOff x="3520080" y="4125960"/>
            <a:chExt cx="5702760" cy="1857240"/>
          </a:xfrm>
        </p:grpSpPr>
        <p:sp>
          <p:nvSpPr>
            <p:cNvPr id="187" name=""/>
            <p:cNvSpPr/>
            <p:nvPr/>
          </p:nvSpPr>
          <p:spPr>
            <a:xfrm>
              <a:off x="3995640" y="4653000"/>
              <a:ext cx="863640" cy="503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500720" y="4365720"/>
              <a:ext cx="2447640" cy="503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20080" y="5157720"/>
              <a:ext cx="477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Oscillations (accelerators) </a:t>
              </a:r>
              <a:r>
                <a:rPr b="0" lang="de-DE" sz="24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 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Franklin Gothic Medium"/>
                </a:rPr>
                <a:t>proton dec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955800">
              <a:off x="6876720" y="4436640"/>
              <a:ext cx="1079640" cy="1429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84200" y="412596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Franklin Gothic Medium"/>
                </a:rPr>
                <a:t>Accel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643280" y="3068640"/>
            <a:ext cx="2259360" cy="1152360"/>
            <a:chOff x="4643280" y="3068640"/>
            <a:chExt cx="2259360" cy="1152360"/>
          </a:xfrm>
        </p:grpSpPr>
        <p:sp>
          <p:nvSpPr>
            <p:cNvPr id="193" name=""/>
            <p:cNvSpPr/>
            <p:nvPr/>
          </p:nvSpPr>
          <p:spPr>
            <a:xfrm>
              <a:off x="4856400" y="3068640"/>
              <a:ext cx="204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Laser axion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4643280" y="3573360"/>
              <a:ext cx="865440" cy="647640"/>
              <a:chOff x="4643280" y="3573360"/>
              <a:chExt cx="865440" cy="647640"/>
            </a:xfrm>
          </p:grpSpPr>
          <p:sp>
            <p:nvSpPr>
              <p:cNvPr id="195" name=""/>
              <p:cNvSpPr/>
              <p:nvPr/>
            </p:nvSpPr>
            <p:spPr>
              <a:xfrm>
                <a:off x="4643280" y="3573360"/>
                <a:ext cx="865440" cy="216000"/>
              </a:xfrm>
              <a:prstGeom prst="triangle">
                <a:avLst>
                  <a:gd name="adj" fmla="val 50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788000" y="3789360"/>
                <a:ext cx="574560" cy="4316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2917080" y="2852640"/>
            <a:ext cx="1440720" cy="1368360"/>
            <a:chOff x="2917080" y="2852640"/>
            <a:chExt cx="1440720" cy="1368360"/>
          </a:xfrm>
        </p:grpSpPr>
        <p:grpSp>
          <p:nvGrpSpPr>
            <p:cNvPr id="198" name=""/>
            <p:cNvGrpSpPr/>
            <p:nvPr/>
          </p:nvGrpSpPr>
          <p:grpSpPr>
            <a:xfrm>
              <a:off x="3492360" y="3573360"/>
              <a:ext cx="865440" cy="647640"/>
              <a:chOff x="3492360" y="3573360"/>
              <a:chExt cx="865440" cy="647640"/>
            </a:xfrm>
          </p:grpSpPr>
          <p:sp>
            <p:nvSpPr>
              <p:cNvPr id="199" name=""/>
              <p:cNvSpPr/>
              <p:nvPr/>
            </p:nvSpPr>
            <p:spPr>
              <a:xfrm>
                <a:off x="3492360" y="3573360"/>
                <a:ext cx="865440" cy="216000"/>
              </a:xfrm>
              <a:prstGeom prst="triangle">
                <a:avLst>
                  <a:gd name="adj" fmla="val 50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37080" y="3789360"/>
                <a:ext cx="574560" cy="4316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917080" y="2852640"/>
              <a:ext cx="86220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ranklin Gothic Medium"/>
                </a:rPr>
                <a:t>m</a:t>
              </a:r>
              <a:r>
                <a:rPr b="0" lang="en-US" sz="5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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71120" y="3519360"/>
            <a:ext cx="2216520" cy="1103760"/>
            <a:chOff x="771120" y="3519360"/>
            <a:chExt cx="2216520" cy="1103760"/>
          </a:xfrm>
        </p:grpSpPr>
        <p:sp>
          <p:nvSpPr>
            <p:cNvPr id="203" name=""/>
            <p:cNvSpPr/>
            <p:nvPr/>
          </p:nvSpPr>
          <p:spPr>
            <a:xfrm>
              <a:off x="1835280" y="4292640"/>
              <a:ext cx="792000" cy="21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56000" y="4365720"/>
              <a:ext cx="431640" cy="215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0517600">
              <a:off x="1476000" y="4076640"/>
              <a:ext cx="358920" cy="50328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1120" y="351936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React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 txBox="1"/>
          <p:nvPr/>
        </p:nvSpPr>
        <p:spPr>
          <a:xfrm>
            <a:off x="1403280" y="3429000"/>
            <a:ext cx="7621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580000" y="3933720"/>
            <a:ext cx="7621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8F9C-2F23-4163-9950-14DE0649587C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91ECF-6944-44C7-AC2B-07BB11E44552}" type="datetime1">
              <a:rPr lang="en-US"/>
              <a:t>07/31/26</a:t>
            </a:fld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1044720" y="4149720"/>
            <a:ext cx="11017440" cy="489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22960" y="37162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Resonance Anten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643280" y="3573360"/>
            <a:ext cx="865440" cy="647640"/>
            <a:chOff x="4643280" y="3573360"/>
            <a:chExt cx="865440" cy="647640"/>
          </a:xfrm>
        </p:grpSpPr>
        <p:sp>
          <p:nvSpPr>
            <p:cNvPr id="212" name=""/>
            <p:cNvSpPr/>
            <p:nvPr/>
          </p:nvSpPr>
          <p:spPr>
            <a:xfrm>
              <a:off x="4643280" y="3573360"/>
              <a:ext cx="865440" cy="21600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88000" y="3789360"/>
              <a:ext cx="574560" cy="431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724000" y="476280"/>
            <a:ext cx="555840" cy="647640"/>
            <a:chOff x="5724000" y="476280"/>
            <a:chExt cx="555840" cy="647640"/>
          </a:xfrm>
        </p:grpSpPr>
        <p:sp>
          <p:nvSpPr>
            <p:cNvPr id="215" name=""/>
            <p:cNvSpPr/>
            <p:nvPr/>
          </p:nvSpPr>
          <p:spPr>
            <a:xfrm>
              <a:off x="5724360" y="620640"/>
              <a:ext cx="555480" cy="358920"/>
            </a:xfrm>
            <a:prstGeom prst="flowChartOnlineStorag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011280" y="476280"/>
              <a:ext cx="144360" cy="215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724000" y="907920"/>
              <a:ext cx="144360" cy="2160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995280" y="763560"/>
            <a:ext cx="555840" cy="647640"/>
            <a:chOff x="3995280" y="763560"/>
            <a:chExt cx="555840" cy="647640"/>
          </a:xfrm>
        </p:grpSpPr>
        <p:sp>
          <p:nvSpPr>
            <p:cNvPr id="219" name=""/>
            <p:cNvSpPr/>
            <p:nvPr/>
          </p:nvSpPr>
          <p:spPr>
            <a:xfrm>
              <a:off x="3995640" y="907920"/>
              <a:ext cx="555480" cy="358920"/>
            </a:xfrm>
            <a:prstGeom prst="flowChartOnlineStorag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282560" y="763560"/>
              <a:ext cx="144360" cy="215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995280" y="1195200"/>
              <a:ext cx="144360" cy="2160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660720" y="1628640"/>
            <a:ext cx="555840" cy="647640"/>
            <a:chOff x="6660720" y="1628640"/>
            <a:chExt cx="555840" cy="647640"/>
          </a:xfrm>
        </p:grpSpPr>
        <p:sp>
          <p:nvSpPr>
            <p:cNvPr id="223" name=""/>
            <p:cNvSpPr/>
            <p:nvPr/>
          </p:nvSpPr>
          <p:spPr>
            <a:xfrm>
              <a:off x="6661080" y="1773000"/>
              <a:ext cx="555480" cy="358920"/>
            </a:xfrm>
            <a:prstGeom prst="flowChartOnlineStorag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948000" y="1628640"/>
              <a:ext cx="144360" cy="215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660720" y="2060280"/>
              <a:ext cx="144360" cy="2160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4284720" y="763200"/>
            <a:ext cx="1511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56000" y="1197000"/>
            <a:ext cx="244800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6011640" y="907560"/>
            <a:ext cx="93636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042560" y="4221000"/>
            <a:ext cx="2016360" cy="43200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042560" y="4723920"/>
            <a:ext cx="2233800" cy="79236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84360" y="4365720"/>
            <a:ext cx="576000" cy="431640"/>
            <a:chOff x="684360" y="4365720"/>
            <a:chExt cx="576000" cy="431640"/>
          </a:xfrm>
        </p:grpSpPr>
        <p:sp>
          <p:nvSpPr>
            <p:cNvPr id="232" name=""/>
            <p:cNvSpPr/>
            <p:nvPr/>
          </p:nvSpPr>
          <p:spPr>
            <a:xfrm>
              <a:off x="684360" y="4365720"/>
              <a:ext cx="576000" cy="14400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0480" y="4509720"/>
              <a:ext cx="382320" cy="287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807480" y="3357720"/>
            <a:ext cx="265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Interfero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(Geo-600, VIR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40480" y="333360"/>
            <a:ext cx="23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Interfe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low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(LI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50920" y="404640"/>
            <a:ext cx="3238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vitat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ves         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6CF5-8D6D-4C81-8848-0D71570BE043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EDDAB-65DB-4EC1-800B-FFC7B84FC497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411280" y="476280"/>
            <a:ext cx="44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so not included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uclear astrophys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overed in nuclear physics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 some countries listed under APP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rk Energy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Necessary to set the stage for APP 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ully covered by astronomy commun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Not our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 some countries under one roof with APP 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arying fundamental con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avity at short di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17D-E6DC-4692-81EC-CA0F3B3A4C6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96224-EC78-4E60-8981-A69DEC9F104D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35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ompile the facts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ect questionnaires from all experiments with European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75 spokespersons add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turn rate 96% (only 3 mi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econd loop for corrections fin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30 page document 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will be available to the commu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art communication with the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AUP, German Astroparticle Workshop,             this Town Meeting,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51280" y="333360"/>
            <a:ext cx="1571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Step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8E3B-1178-4092-9F32-1A792E6845D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1E91C-7A9B-4D6D-B399-63731F697FF8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ntact CERN strategy group (Dec.12) and national roadmap committees</a:t>
            </a:r>
            <a:r>
              <a:rPr b="0" lang="de-DE" sz="28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ize draft at a PRC meeting in Berlin at        Jan. 16/17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 draft to SC Meeting at Jan 23/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discussion with SC and modifications:  place the draft on the web for everybody (mid February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communication with ESFRI (ApPEC S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back from the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Meeting in Spring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ize Roadmap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 to SC (May/June 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51280" y="333360"/>
            <a:ext cx="1571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Step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D22-E008-4A55-99F5-AE7CCE20B7DC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3AD3B-41E8-4D1C-B705-EBF8F909AF2E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smology and early Univers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ncluding dark mat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perties of partic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utrino mass (direct and double beta)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otic particles (WIMPs, axions, Q-Balls,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gnetic  monopol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ton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mal Universe: Low energy neutr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n-thermal Universe (gamma, neutrinos, cosmic r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perties of the gravitational for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interferometers and resonant detec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47640" y="404640"/>
            <a:ext cx="64198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Sections of the Roadmap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161-1961-49D1-9CEF-35E88F69BDE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58E81-1921-4E0C-9EF7-6418FD0FDE1E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11280" y="401400"/>
            <a:ext cx="79214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eutrino Mass: single be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Trit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roitz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ai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KATRIN     KATRIN bol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Rhenium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ibet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anu-2</a:t>
            </a:r>
            <a:r>
              <a:rPr b="0" lang="it-IT" sz="24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ARE</a:t>
            </a:r>
            <a:r>
              <a:rPr b="0" lang="it-IT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70160" y="1268280"/>
            <a:ext cx="1061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89440" y="2133720"/>
            <a:ext cx="1061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22160" y="5086440"/>
            <a:ext cx="1416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3080" y="2133720"/>
            <a:ext cx="13251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0.2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45840" y="4076640"/>
            <a:ext cx="19778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2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266920" y="4723920"/>
            <a:ext cx="0" cy="360360"/>
          </a:xfrm>
          <a:prstGeom prst="line">
            <a:avLst/>
          </a:prstGeom>
          <a:ln w="38160">
            <a:solidFill>
              <a:srgbClr val="cc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23320" y="5589720"/>
            <a:ext cx="35517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price tag KATRIN 34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3633840" y="3141720"/>
            <a:ext cx="792000" cy="244800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268000" y="1700280"/>
            <a:ext cx="358920" cy="288720"/>
          </a:xfrm>
          <a:prstGeom prst="line">
            <a:avLst/>
          </a:prstGeom>
          <a:ln w="38160">
            <a:solidFill>
              <a:srgbClr val="cc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A75-2200-4810-9F8E-DCC6B6EE82FA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ED1A7-5621-481B-845A-2160149D0DCE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762120" y="304920"/>
            <a:ext cx="769608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ommendtions Double Beta Experiments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318600" y="1413000"/>
            <a:ext cx="88279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levant neutrino mass parameter m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e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&gt; 1 meV is 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xperiments are sensitive to (m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e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nuclear matrix element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he matrix el. are highly uncertain (at diff. level for diff. nucl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orm collaboration of adequate size and expertise aiming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 sensitivity down to or below 10 me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ome redundancy in the choice of nuclei (at least worldw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igorous program to reduce uncertainty of nuclear matr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lements, at least for a few key nuc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360" y="5516640"/>
            <a:ext cx="773208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International Statement on neutrinoless Double-Beta Decay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94880" y="5950080"/>
            <a:ext cx="153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Sept.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20983800">
            <a:off x="7247160" y="907920"/>
            <a:ext cx="1602720" cy="4597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un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5305-13E6-4BC6-B25B-BCCFA3637418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9D5C0-1706-46C6-86C2-30D0EB32D671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1268280"/>
            <a:ext cx="85788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Review and assess research propos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the fie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Astroparticle Physics at the request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PEC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Advise and make recommend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through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PEC steering committee to the national fun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gencies involved in ApPEC on research propos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mitted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Keep under review current and proposed progra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es in Astroparticle Physics of interest to ApPE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Contribute to a medium and long-term plan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future of APP in Euro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16000" y="260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Peer Review Committe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FE4B-8378-46BA-9051-AA19FFE5BFF2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D994E-7469-49B3-B99F-BF653E30BE82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50920" y="288720"/>
            <a:ext cx="86756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Neutrino Mass: Double Beta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present     next 5 years 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 next 10 years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D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ERDA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erda+Majo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uoricin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10 t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uor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uore enrich.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EM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per-N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XO-200 *            EXO 1-10 ton*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BRA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59500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USA with Swiss partcip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90160" y="1989000"/>
            <a:ext cx="2722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30-5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96000" y="2349360"/>
            <a:ext cx="0" cy="43200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1AA-2261-4C05-B8D1-9F6A7A18480A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7A345-BAC7-4A35-A4B6-B5C75325D6BE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838080" y="304920"/>
            <a:ext cx="762012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ommendtions Dark Matter Experimen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313920" y="1371600"/>
            <a:ext cx="822528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earch for WIMPs by direct detection method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 most valuable mean to solve the Dark Mat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t present several projects in Europe, US, Jap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im at a sensitivity for the spin-indepen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IMP-nucleon cross section of 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p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urther increase by two orders of magnitu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pb) is conceivable and desi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quires detector on the ton sc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20983800">
            <a:off x="7248240" y="923760"/>
            <a:ext cx="1433520" cy="4597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a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7AB6-0770-4EA9-A0BA-82493E52069F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7F54B-1A7C-426D-B94F-091E165F80F1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62360" y="685800"/>
            <a:ext cx="87634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 of current activity in 2 years in or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rmine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 most promising techn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(at that time a clear demonstration of an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ensitivity in the 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range should be avail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mmon activity across Europ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uclear recoil energy calib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operties of neutron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mpact of nuclear form factors or halo parame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 sensi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ans of validating a possible sig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ork on electron and gamma rejection techniques</a:t>
            </a: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280B-D124-49E2-9534-39733949EBFD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21C7D-3022-46CE-8525-47845421985A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68360" y="189000"/>
            <a:ext cx="779616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Direct Dark Matter Search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AMA/LIBR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MA-1ton ?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olo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ES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delweis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URE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OSEBUD R&amp;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ffffff"/>
                </a:solidFill>
                <a:uFillTx/>
                <a:latin typeface="Arial"/>
              </a:rPr>
              <a:t>G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GEX-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D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enius-TF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74160" y="907920"/>
            <a:ext cx="26373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Ultimate price t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20-1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20732400">
            <a:off x="5098680" y="4292640"/>
            <a:ext cx="1200240" cy="459720"/>
          </a:xfrm>
          <a:prstGeom prst="rect">
            <a:avLst/>
          </a:prstGeom>
          <a:solidFill>
            <a:srgbClr val="ccccff"/>
          </a:solidFill>
          <a:ln w="324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7FE-CD09-4FC8-A23F-522C7C931DC4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CDCCA-939B-439B-8EF0-5AA5AE4C4FF7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68360" y="333360"/>
            <a:ext cx="779616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Direct Dark Matter Search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Noble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Zeplin-1  </a:t>
            </a:r>
            <a:r>
              <a:rPr b="0" lang="it-IT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eplin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eplin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enon*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DM 1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DM 10 t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ffffff"/>
                </a:solidFill>
                <a:uFillTx/>
                <a:latin typeface="Arial"/>
              </a:rPr>
              <a:t>Directional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ift I, II 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Drif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ift 1 ton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74160" y="1052640"/>
            <a:ext cx="26373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Ultimate price t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20-1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20732400">
            <a:off x="5961960" y="5516640"/>
            <a:ext cx="1200240" cy="459720"/>
          </a:xfrm>
          <a:prstGeom prst="rect">
            <a:avLst/>
          </a:prstGeom>
          <a:solidFill>
            <a:srgbClr val="ccccff"/>
          </a:solidFill>
          <a:ln w="324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20732400">
            <a:off x="5817600" y="3860640"/>
            <a:ext cx="1200240" cy="459720"/>
          </a:xfrm>
          <a:prstGeom prst="rect">
            <a:avLst/>
          </a:prstGeom>
          <a:solidFill>
            <a:srgbClr val="ccccff"/>
          </a:solidFill>
          <a:ln w="324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20732400">
            <a:off x="5746320" y="2276640"/>
            <a:ext cx="1200240" cy="459720"/>
          </a:xfrm>
          <a:prstGeom prst="rect">
            <a:avLst/>
          </a:prstGeom>
          <a:solidFill>
            <a:srgbClr val="ccccff"/>
          </a:solidFill>
          <a:ln w="324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67640" y="1989000"/>
            <a:ext cx="73080" cy="2087640"/>
          </a:xfrm>
          <a:custGeom>
            <a:avLst/>
            <a:gdLst>
              <a:gd name="textAreaLeft" fmla="*/ 0 w 73080"/>
              <a:gd name="textAreaRight" fmla="*/ 26280 w 730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924"/>
                </a:lnTo>
                <a:cubicBezTo>
                  <a:pt x="10800" y="8824"/>
                  <a:pt x="16200" y="9724"/>
                  <a:pt x="21600" y="9724"/>
                </a:cubicBezTo>
                <a:cubicBezTo>
                  <a:pt x="16200" y="9724"/>
                  <a:pt x="10800" y="10624"/>
                  <a:pt x="10800" y="115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96160" y="4745160"/>
            <a:ext cx="12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articul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ter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f DM 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een s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6B11-7808-4CC8-A9A3-35B466C84707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A38C2-2CE0-44D1-9195-96EF7128943E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68360" y="333360"/>
            <a:ext cx="779616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Direct Dark Matter Search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Superheated grains (R&amp;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IMPLE (Lisb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ICASSO (Montreal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23960" y="3284640"/>
            <a:ext cx="5923080" cy="2654280"/>
          </a:xfrm>
          <a:prstGeom prst="rect">
            <a:avLst/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Axion Sear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CAST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PVLAS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HERA/LHC magnets?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F59-8CD3-400B-8235-AB4D88A10D0C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7AE0E-583B-4696-9A55-92A56AA3B4AC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47640" y="476280"/>
            <a:ext cx="7056720" cy="5111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68560" y="5680080"/>
            <a:ext cx="76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80    1985     1990     1995     2000      2005     2010   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39520" y="5475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3440" y="508464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8240" y="350028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9520" y="206064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63640" y="907920"/>
            <a:ext cx="331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59280" y="836640"/>
            <a:ext cx="2737080" cy="4680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04000" y="1195560"/>
            <a:ext cx="792360" cy="5047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4360" y="1771560"/>
            <a:ext cx="0" cy="1656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08720" y="1700280"/>
            <a:ext cx="792000" cy="863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00720" y="2563920"/>
            <a:ext cx="1727280" cy="2952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54880" y="371484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ion 2002 (R. Gaitske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932360" y="2852280"/>
            <a:ext cx="934920" cy="792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-647280" y="281556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ross section (p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39960" y="4457880"/>
            <a:ext cx="421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ensitivity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IMP-DM cross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454-297D-43D2-BC86-BD54B77A63E1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0C2EB-F432-4261-B3AB-13222039720D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24000" y="185400"/>
            <a:ext cx="7775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Gamma Telesc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operating        soon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   after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ESS               HESS-2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arge Array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AGIC       Magic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hipple </a:t>
            </a:r>
            <a:r>
              <a:rPr b="1" lang="de-DE" sz="2400" spc="-1" strike="noStrike">
                <a:solidFill>
                  <a:srgbClr val="ffff66"/>
                </a:solidFill>
                <a:latin typeface="Arial"/>
              </a:rPr>
              <a:t>|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Veritas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RGO/Y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atellite:           AGIL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atellite:                  G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atellite:                                          GILDA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83720" y="4292640"/>
            <a:ext cx="28263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Ultimate price t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      </a:t>
            </a: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2 x 1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5940360" y="2781000"/>
            <a:ext cx="1511280" cy="1584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67640" y="1989000"/>
            <a:ext cx="217440" cy="1798920"/>
          </a:xfrm>
          <a:custGeom>
            <a:avLst/>
            <a:gdLst>
              <a:gd name="textAreaLeft" fmla="*/ 0 w 217440"/>
              <a:gd name="textAreaRight" fmla="*/ 78480 w 217440"/>
              <a:gd name="textAreaTop" fmla="*/ 46800 h 1798920"/>
              <a:gd name="textAreaBottom" fmla="*/ 1752120 h 17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029440" y="24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96800" y="4365720"/>
            <a:ext cx="27457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price tag  5-12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780000" y="3789000"/>
            <a:ext cx="142560" cy="576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1CA-3C7A-4EA9-86D2-FE8BD8C736CC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F5B10-9971-40EA-B9A2-0DB847563A31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98560" y="1270080"/>
            <a:ext cx="7416720" cy="41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98560" y="3357720"/>
            <a:ext cx="741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98560" y="4365720"/>
            <a:ext cx="741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98560" y="2278080"/>
            <a:ext cx="741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3800" y="5591160"/>
            <a:ext cx="75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960    1965    1970    1975    1980    1985    1990    1995    2000   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9056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8292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6728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8800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0692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9928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2000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1200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2840" y="314172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2840" y="213372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2840" y="112536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2840" y="422280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67640" y="400680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95640" y="5373720"/>
            <a:ext cx="142920" cy="144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14920" y="1773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59280" y="2781360"/>
            <a:ext cx="1425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11280" y="3790800"/>
            <a:ext cx="14292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14560" y="537372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8360" y="2781360"/>
            <a:ext cx="142920" cy="144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22920" y="3141720"/>
            <a:ext cx="142920" cy="144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3280" y="3214800"/>
            <a:ext cx="142920" cy="144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2560" y="3573360"/>
            <a:ext cx="142920" cy="1447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64000" y="537372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67640" y="2709720"/>
            <a:ext cx="142920" cy="1447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48360" y="443880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27640" y="472608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187280" y="3862080"/>
            <a:ext cx="1295640" cy="158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130560" y="1846440"/>
            <a:ext cx="1657440" cy="1008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482920" y="2854440"/>
            <a:ext cx="647640" cy="1008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788000" y="1269720"/>
            <a:ext cx="136836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340000" y="3646440"/>
            <a:ext cx="1655640" cy="172872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88000" y="3214800"/>
            <a:ext cx="1008000" cy="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995640" y="3285720"/>
            <a:ext cx="719280" cy="36036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020000" y="2781000"/>
            <a:ext cx="718920" cy="7308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796000" y="2854080"/>
            <a:ext cx="1224000" cy="36036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435640" y="4798800"/>
            <a:ext cx="863640" cy="647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020000" y="4078080"/>
            <a:ext cx="718920" cy="431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299280" y="4509720"/>
            <a:ext cx="720720" cy="28908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738920" y="3860280"/>
            <a:ext cx="217800" cy="21780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90160" y="1630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X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97440" y="37180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7c80"/>
                </a:solidFill>
                <a:latin typeface="Arial"/>
              </a:rPr>
              <a:t>MeV-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74520" y="479916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ffff"/>
                </a:solidFill>
                <a:latin typeface="Arial"/>
              </a:rPr>
              <a:t>0.1-100 T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3920" y="333360"/>
            <a:ext cx="83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High Energy Photon Sky: Source Count vs.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63200" y="5950080"/>
            <a:ext cx="46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Arial"/>
              </a:rPr>
              <a:t>(modified from M. De Naurois, astro-ph/040936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885080" y="378936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28C6-3376-4F9D-9D28-53639C3E2F8A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36050-2ABE-456C-8ABF-D5FF228A6C0B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68360" y="333360"/>
            <a:ext cx="689112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ommendtions Neutrino Telescop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5" name=""/>
          <p:cNvSpPr/>
          <p:nvPr/>
        </p:nvSpPr>
        <p:spPr>
          <a:xfrm>
            <a:off x="320760" y="1125360"/>
            <a:ext cx="845496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th the aim of constructing a detector of km3 scale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orthern hemisphere, both in view of size and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th IceCube: form a single coherent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llecting 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the efforts under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epare report to ApPEC PRC with following inform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optical properties of water, incl. seasonal 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d using the same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optical background and sedi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comparative simulations about impact of depth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ater properties to some benchmark km3 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(focussing to the central goals of Nu Telescop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ngle design study in the European FP6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ew review in one year (summer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20983800">
            <a:off x="7391160" y="549360"/>
            <a:ext cx="1483920" cy="4597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uly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4B2-3F6B-45D5-BA29-14CCD5E1D3FA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61D03-9BC1-4BCE-B4F2-D90849D48B00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55640" y="206064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ouble Beta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Dark Matter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igh Energy Gamma Telesco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igh Energy Neutrino Telescopes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Gravitational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igh Energy Cosmic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476280"/>
            <a:ext cx="6626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Reviewed in 2002-2005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5369400" y="1773360"/>
            <a:ext cx="341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hair: Riccardo Barb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D12-FE0E-423B-9882-1BB3C04093D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E4D2D-6B29-4D80-8BDF-3812E769B9C0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50920" y="-3960"/>
            <a:ext cx="889308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High Energy Neutrino Telesc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ikal-NT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T200+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        (Baikal GVD (2015)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eCube (2010)    HyperCube ?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(radio+acou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t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estor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e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M3 (20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tegration of radio and acoustic detection into optical telesco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Neutrino interactions in atmosphere (Auger,EUSO), in the moon (radio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ntennas), ...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8880" y="3573360"/>
            <a:ext cx="30610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150-3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787640" y="3068640"/>
            <a:ext cx="1368360" cy="50328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508360" y="4005360"/>
            <a:ext cx="647640" cy="43164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05C-8188-46A1-BD41-F399C2CEBBE9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0C798-516B-4EB8-B424-5A8363AFF2A7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155080" cy="59785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205080" y="1052640"/>
            <a:ext cx="108108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421080" y="763560"/>
            <a:ext cx="4632120" cy="1360800"/>
            <a:chOff x="3421080" y="763560"/>
            <a:chExt cx="4632120" cy="1360800"/>
          </a:xfrm>
        </p:grpSpPr>
        <p:sp>
          <p:nvSpPr>
            <p:cNvPr id="364" name=""/>
            <p:cNvSpPr/>
            <p:nvPr/>
          </p:nvSpPr>
          <p:spPr>
            <a:xfrm>
              <a:off x="6086520" y="76356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R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50160" y="763560"/>
              <a:ext cx="110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G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21080" y="1725480"/>
              <a:ext cx="207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manda, Baik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562840" y="969840"/>
            <a:ext cx="5912640" cy="1416600"/>
            <a:chOff x="2562840" y="969840"/>
            <a:chExt cx="5912640" cy="1416600"/>
          </a:xfrm>
        </p:grpSpPr>
        <p:sp>
          <p:nvSpPr>
            <p:cNvPr id="368" name=""/>
            <p:cNvSpPr/>
            <p:nvPr/>
          </p:nvSpPr>
          <p:spPr>
            <a:xfrm>
              <a:off x="3324240" y="969840"/>
              <a:ext cx="5151240" cy="1290600"/>
            </a:xfrm>
            <a:custGeom>
              <a:avLst/>
              <a:gdLst/>
              <a:ahLst/>
              <a:rect l="l" t="t" r="r" b="b"/>
              <a:pathLst>
                <a:path w="3245" h="813">
                  <a:moveTo>
                    <a:pt x="0" y="804"/>
                  </a:moveTo>
                  <a:cubicBezTo>
                    <a:pt x="76" y="805"/>
                    <a:pt x="323" y="813"/>
                    <a:pt x="457" y="813"/>
                  </a:cubicBezTo>
                  <a:cubicBezTo>
                    <a:pt x="591" y="813"/>
                    <a:pt x="690" y="810"/>
                    <a:pt x="804" y="804"/>
                  </a:cubicBezTo>
                  <a:cubicBezTo>
                    <a:pt x="918" y="798"/>
                    <a:pt x="1032" y="794"/>
                    <a:pt x="1142" y="777"/>
                  </a:cubicBezTo>
                  <a:cubicBezTo>
                    <a:pt x="1252" y="760"/>
                    <a:pt x="1383" y="728"/>
                    <a:pt x="1462" y="704"/>
                  </a:cubicBezTo>
                  <a:cubicBezTo>
                    <a:pt x="1541" y="680"/>
                    <a:pt x="1575" y="661"/>
                    <a:pt x="1618" y="631"/>
                  </a:cubicBezTo>
                  <a:cubicBezTo>
                    <a:pt x="1661" y="601"/>
                    <a:pt x="1689" y="559"/>
                    <a:pt x="1718" y="521"/>
                  </a:cubicBezTo>
                  <a:cubicBezTo>
                    <a:pt x="1747" y="483"/>
                    <a:pt x="1769" y="448"/>
                    <a:pt x="1792" y="402"/>
                  </a:cubicBezTo>
                  <a:cubicBezTo>
                    <a:pt x="1815" y="356"/>
                    <a:pt x="1829" y="287"/>
                    <a:pt x="1856" y="247"/>
                  </a:cubicBezTo>
                  <a:cubicBezTo>
                    <a:pt x="1883" y="207"/>
                    <a:pt x="1913" y="176"/>
                    <a:pt x="1956" y="164"/>
                  </a:cubicBezTo>
                  <a:cubicBezTo>
                    <a:pt x="1999" y="152"/>
                    <a:pt x="2056" y="164"/>
                    <a:pt x="2112" y="173"/>
                  </a:cubicBezTo>
                  <a:cubicBezTo>
                    <a:pt x="2168" y="182"/>
                    <a:pt x="2224" y="213"/>
                    <a:pt x="2294" y="219"/>
                  </a:cubicBezTo>
                  <a:cubicBezTo>
                    <a:pt x="2364" y="225"/>
                    <a:pt x="2447" y="218"/>
                    <a:pt x="2532" y="210"/>
                  </a:cubicBezTo>
                  <a:cubicBezTo>
                    <a:pt x="2617" y="202"/>
                    <a:pt x="2721" y="191"/>
                    <a:pt x="2806" y="173"/>
                  </a:cubicBezTo>
                  <a:cubicBezTo>
                    <a:pt x="2891" y="155"/>
                    <a:pt x="2971" y="129"/>
                    <a:pt x="3044" y="100"/>
                  </a:cubicBezTo>
                  <a:cubicBezTo>
                    <a:pt x="3117" y="71"/>
                    <a:pt x="3203" y="21"/>
                    <a:pt x="3245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62840" y="1987560"/>
              <a:ext cx="747720" cy="398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210480" y="2995560"/>
            <a:ext cx="5250960" cy="1084680"/>
            <a:chOff x="3210480" y="2995560"/>
            <a:chExt cx="5250960" cy="1084680"/>
          </a:xfrm>
        </p:grpSpPr>
        <p:sp>
          <p:nvSpPr>
            <p:cNvPr id="371" name=""/>
            <p:cNvSpPr/>
            <p:nvPr/>
          </p:nvSpPr>
          <p:spPr>
            <a:xfrm>
              <a:off x="3962520" y="2995560"/>
              <a:ext cx="4498920" cy="849240"/>
            </a:xfrm>
            <a:custGeom>
              <a:avLst/>
              <a:gdLst/>
              <a:ahLst/>
              <a:rect l="l" t="t" r="r" b="b"/>
              <a:pathLst>
                <a:path w="2834" h="535">
                  <a:moveTo>
                    <a:pt x="0" y="531"/>
                  </a:moveTo>
                  <a:cubicBezTo>
                    <a:pt x="81" y="529"/>
                    <a:pt x="335" y="535"/>
                    <a:pt x="484" y="521"/>
                  </a:cubicBezTo>
                  <a:cubicBezTo>
                    <a:pt x="633" y="507"/>
                    <a:pt x="786" y="483"/>
                    <a:pt x="896" y="448"/>
                  </a:cubicBezTo>
                  <a:cubicBezTo>
                    <a:pt x="1006" y="413"/>
                    <a:pt x="1078" y="352"/>
                    <a:pt x="1143" y="311"/>
                  </a:cubicBezTo>
                  <a:cubicBezTo>
                    <a:pt x="1208" y="270"/>
                    <a:pt x="1231" y="206"/>
                    <a:pt x="1289" y="201"/>
                  </a:cubicBezTo>
                  <a:cubicBezTo>
                    <a:pt x="1347" y="196"/>
                    <a:pt x="1425" y="271"/>
                    <a:pt x="1490" y="283"/>
                  </a:cubicBezTo>
                  <a:cubicBezTo>
                    <a:pt x="1555" y="295"/>
                    <a:pt x="1613" y="266"/>
                    <a:pt x="1682" y="274"/>
                  </a:cubicBezTo>
                  <a:cubicBezTo>
                    <a:pt x="1751" y="282"/>
                    <a:pt x="1820" y="324"/>
                    <a:pt x="1902" y="329"/>
                  </a:cubicBezTo>
                  <a:cubicBezTo>
                    <a:pt x="1984" y="334"/>
                    <a:pt x="2095" y="319"/>
                    <a:pt x="2176" y="302"/>
                  </a:cubicBezTo>
                  <a:cubicBezTo>
                    <a:pt x="2257" y="285"/>
                    <a:pt x="2325" y="253"/>
                    <a:pt x="2386" y="229"/>
                  </a:cubicBezTo>
                  <a:cubicBezTo>
                    <a:pt x="2447" y="205"/>
                    <a:pt x="2493" y="179"/>
                    <a:pt x="2542" y="155"/>
                  </a:cubicBezTo>
                  <a:cubicBezTo>
                    <a:pt x="2591" y="131"/>
                    <a:pt x="2630" y="108"/>
                    <a:pt x="2679" y="82"/>
                  </a:cubicBezTo>
                  <a:cubicBezTo>
                    <a:pt x="2728" y="56"/>
                    <a:pt x="2802" y="17"/>
                    <a:pt x="2834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10480" y="3681360"/>
              <a:ext cx="747720" cy="398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0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946120" y="2995560"/>
            <a:ext cx="1369440" cy="440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UGER </a:t>
            </a:r>
            <a:r>
              <a:rPr b="1" lang="de-DE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de-DE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37800" y="2708280"/>
            <a:ext cx="81792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429000"/>
            <a:ext cx="194436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manda,Antares, Baikal, Ne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73520" y="3645000"/>
            <a:ext cx="2997360" cy="1047600"/>
          </a:xfrm>
          <a:custGeom>
            <a:avLst/>
            <a:gdLst/>
            <a:ahLst/>
            <a:rect l="l" t="t" r="r" b="b"/>
            <a:pathLst>
              <a:path w="1888" h="660">
                <a:moveTo>
                  <a:pt x="0" y="657"/>
                </a:moveTo>
                <a:cubicBezTo>
                  <a:pt x="27" y="655"/>
                  <a:pt x="97" y="658"/>
                  <a:pt x="155" y="657"/>
                </a:cubicBezTo>
                <a:cubicBezTo>
                  <a:pt x="213" y="656"/>
                  <a:pt x="278" y="660"/>
                  <a:pt x="347" y="648"/>
                </a:cubicBezTo>
                <a:cubicBezTo>
                  <a:pt x="416" y="636"/>
                  <a:pt x="500" y="614"/>
                  <a:pt x="567" y="584"/>
                </a:cubicBezTo>
                <a:cubicBezTo>
                  <a:pt x="634" y="554"/>
                  <a:pt x="701" y="495"/>
                  <a:pt x="750" y="465"/>
                </a:cubicBezTo>
                <a:cubicBezTo>
                  <a:pt x="799" y="435"/>
                  <a:pt x="829" y="413"/>
                  <a:pt x="859" y="401"/>
                </a:cubicBezTo>
                <a:cubicBezTo>
                  <a:pt x="889" y="389"/>
                  <a:pt x="892" y="386"/>
                  <a:pt x="932" y="392"/>
                </a:cubicBezTo>
                <a:cubicBezTo>
                  <a:pt x="972" y="398"/>
                  <a:pt x="1041" y="430"/>
                  <a:pt x="1097" y="438"/>
                </a:cubicBezTo>
                <a:cubicBezTo>
                  <a:pt x="1153" y="446"/>
                  <a:pt x="1203" y="451"/>
                  <a:pt x="1271" y="438"/>
                </a:cubicBezTo>
                <a:cubicBezTo>
                  <a:pt x="1339" y="425"/>
                  <a:pt x="1445" y="385"/>
                  <a:pt x="1504" y="360"/>
                </a:cubicBezTo>
                <a:cubicBezTo>
                  <a:pt x="1563" y="335"/>
                  <a:pt x="1591" y="311"/>
                  <a:pt x="1624" y="288"/>
                </a:cubicBezTo>
                <a:cubicBezTo>
                  <a:pt x="1657" y="265"/>
                  <a:pt x="1676" y="251"/>
                  <a:pt x="1704" y="224"/>
                </a:cubicBezTo>
                <a:cubicBezTo>
                  <a:pt x="1732" y="197"/>
                  <a:pt x="1761" y="165"/>
                  <a:pt x="1792" y="128"/>
                </a:cubicBezTo>
                <a:cubicBezTo>
                  <a:pt x="1823" y="91"/>
                  <a:pt x="1868" y="27"/>
                  <a:pt x="1888" y="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81440" y="4497480"/>
            <a:ext cx="8762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1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61080" y="4869000"/>
            <a:ext cx="8762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97440" y="4508640"/>
            <a:ext cx="1584360" cy="673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 new tech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850120" y="1987560"/>
            <a:ext cx="5625360" cy="1398960"/>
            <a:chOff x="2850120" y="1987560"/>
            <a:chExt cx="5625360" cy="1398960"/>
          </a:xfrm>
        </p:grpSpPr>
        <p:sp>
          <p:nvSpPr>
            <p:cNvPr id="381" name=""/>
            <p:cNvSpPr/>
            <p:nvPr/>
          </p:nvSpPr>
          <p:spPr>
            <a:xfrm>
              <a:off x="2850120" y="2987640"/>
              <a:ext cx="747720" cy="398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303240" y="1987560"/>
              <a:ext cx="1636200" cy="398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RICE  G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12960" y="2333520"/>
              <a:ext cx="4862520" cy="871560"/>
            </a:xfrm>
            <a:custGeom>
              <a:avLst/>
              <a:gdLst/>
              <a:ahLst/>
              <a:rect l="l" t="t" r="r" b="b"/>
              <a:pathLst>
                <a:path w="3063" h="549">
                  <a:moveTo>
                    <a:pt x="0" y="549"/>
                  </a:moveTo>
                  <a:cubicBezTo>
                    <a:pt x="76" y="546"/>
                    <a:pt x="301" y="544"/>
                    <a:pt x="458" y="530"/>
                  </a:cubicBezTo>
                  <a:cubicBezTo>
                    <a:pt x="615" y="516"/>
                    <a:pt x="799" y="501"/>
                    <a:pt x="942" y="466"/>
                  </a:cubicBezTo>
                  <a:cubicBezTo>
                    <a:pt x="1085" y="431"/>
                    <a:pt x="1201" y="381"/>
                    <a:pt x="1317" y="320"/>
                  </a:cubicBezTo>
                  <a:cubicBezTo>
                    <a:pt x="1433" y="259"/>
                    <a:pt x="1524" y="132"/>
                    <a:pt x="1637" y="101"/>
                  </a:cubicBezTo>
                  <a:cubicBezTo>
                    <a:pt x="1750" y="70"/>
                    <a:pt x="1881" y="131"/>
                    <a:pt x="1994" y="137"/>
                  </a:cubicBezTo>
                  <a:cubicBezTo>
                    <a:pt x="2107" y="143"/>
                    <a:pt x="2215" y="143"/>
                    <a:pt x="2314" y="137"/>
                  </a:cubicBezTo>
                  <a:cubicBezTo>
                    <a:pt x="2413" y="131"/>
                    <a:pt x="2503" y="113"/>
                    <a:pt x="2588" y="101"/>
                  </a:cubicBezTo>
                  <a:cubicBezTo>
                    <a:pt x="2673" y="89"/>
                    <a:pt x="2747" y="81"/>
                    <a:pt x="2826" y="64"/>
                  </a:cubicBezTo>
                  <a:cubicBezTo>
                    <a:pt x="2905" y="47"/>
                    <a:pt x="3014" y="13"/>
                    <a:pt x="3063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95280" y="189000"/>
            <a:ext cx="8499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chieved and expected sensitivities to diffuse flu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2708280"/>
            <a:ext cx="1224000" cy="289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E55A-1044-48A7-93EC-84932DD5C814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45587-D4DF-4C4F-9D9A-3EF9F9AA575D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52360" y="765000"/>
            <a:ext cx="7056720" cy="511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7440" y="5877000"/>
            <a:ext cx="76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80    1985     1990     1995     2000      2005     2010   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240" y="83664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8160" y="53737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72960" y="37893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4240" y="23493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81440" y="1484280"/>
            <a:ext cx="1366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48000" y="1484280"/>
            <a:ext cx="79236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40360" y="2349360"/>
            <a:ext cx="792000" cy="71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32360" y="3068640"/>
            <a:ext cx="1440000" cy="1440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7080" y="90792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92360" y="907920"/>
            <a:ext cx="289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027920" y="4651200"/>
            <a:ext cx="1941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0-1000 T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67280" y="1197000"/>
            <a:ext cx="1009440" cy="21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76720" y="1413000"/>
            <a:ext cx="1079640" cy="107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56360" y="2492280"/>
            <a:ext cx="151128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819200" y="3571920"/>
            <a:ext cx="1009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 E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32000" y="979560"/>
            <a:ext cx="62150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man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jus  Macro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ikal/Amanda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ceCube/K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79000" y="906480"/>
            <a:ext cx="347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ce   AGASA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ce  G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ita, Au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360" y="187200"/>
            <a:ext cx="39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Flux * E²  (GeV/ cm² sec s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01120" y="4581360"/>
            <a:ext cx="494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ensitivity to HE diff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eutrino flu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0F92-DA0A-4431-BBF3-13BC56270C71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5AD66-84D8-4508-A1FF-829B13130B93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-72720" y="106560"/>
            <a:ext cx="8867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Cosmic Ray Experi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R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REAM                                ballo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TIC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AMELA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MS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b) Towards the end of the galactic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ascade-Grande  |2008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08..2010|  IceTop/IceCube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06..2008|  Tunka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80000" y="2060640"/>
            <a:ext cx="144360" cy="93492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3080" y="2997360"/>
            <a:ext cx="239364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~20 M€, 2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E4C8-2B33-4CD6-8773-4725B90B0F77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193B5-8CC6-43F0-8AE7-368869998F85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79640" y="289440"/>
            <a:ext cx="7953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Cosmic Ray Experi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c) High and Ultra-high ener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uger 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Auger North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USO (&gt; 2015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esterbork (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d) New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OPES, Coda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OFAR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780000" y="2060640"/>
            <a:ext cx="144360" cy="93492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11640" y="2276640"/>
            <a:ext cx="36734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~ 50 M€ per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88000" y="4653000"/>
            <a:ext cx="25923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125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292720" y="3860280"/>
            <a:ext cx="0" cy="792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6863-CEF7-4DA8-971A-5941FA8C126A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B30D2-FD6D-48DA-93D7-DB5257ECF4F9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Integrated Aper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55320" y="997200"/>
            <a:ext cx="7763400" cy="5468040"/>
            <a:chOff x="355320" y="997200"/>
            <a:chExt cx="7763400" cy="5468040"/>
          </a:xfrm>
        </p:grpSpPr>
        <p:sp>
          <p:nvSpPr>
            <p:cNvPr id="418" name=""/>
            <p:cNvSpPr/>
            <p:nvPr/>
          </p:nvSpPr>
          <p:spPr>
            <a:xfrm>
              <a:off x="1368360" y="1093680"/>
              <a:ext cx="6518520" cy="472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68360" y="463608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68360" y="345564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68360" y="227520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68360" y="109368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99680" y="1093680"/>
              <a:ext cx="144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3244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6232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93280" y="1093680"/>
              <a:ext cx="144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2460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55920" y="1093680"/>
              <a:ext cx="144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8724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68360" y="1093680"/>
              <a:ext cx="6518520" cy="4722840"/>
            </a:xfrm>
            <a:prstGeom prst="rect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6836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15440" y="581652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15440" y="463608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15440" y="345564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15440" y="227520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15440" y="109368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68360" y="581652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36836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299680" y="581616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23244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16232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093280" y="581616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02460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955920" y="581616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88724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554480" y="5460840"/>
              <a:ext cx="187200" cy="355680"/>
            </a:xfrm>
            <a:custGeom>
              <a:avLst/>
              <a:gdLst/>
              <a:ahLst/>
              <a:rect l="l" t="t" r="r" b="b"/>
              <a:pathLst>
                <a:path w="248" h="477">
                  <a:moveTo>
                    <a:pt x="0" y="477"/>
                  </a:moveTo>
                  <a:lnTo>
                    <a:pt x="31" y="417"/>
                  </a:lnTo>
                  <a:lnTo>
                    <a:pt x="62" y="353"/>
                  </a:lnTo>
                  <a:lnTo>
                    <a:pt x="93" y="290"/>
                  </a:lnTo>
                  <a:lnTo>
                    <a:pt x="124" y="226"/>
                  </a:lnTo>
                  <a:lnTo>
                    <a:pt x="155" y="165"/>
                  </a:lnTo>
                  <a:lnTo>
                    <a:pt x="186" y="106"/>
                  </a:lnTo>
                  <a:lnTo>
                    <a:pt x="202" y="76"/>
                  </a:lnTo>
                  <a:lnTo>
                    <a:pt x="217" y="50"/>
                  </a:lnTo>
                  <a:lnTo>
                    <a:pt x="233" y="25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1680" y="5252400"/>
              <a:ext cx="185760" cy="208080"/>
            </a:xfrm>
            <a:custGeom>
              <a:avLst/>
              <a:gdLst/>
              <a:ahLst/>
              <a:rect l="l" t="t" r="r" b="b"/>
              <a:pathLst>
                <a:path w="246" h="280">
                  <a:moveTo>
                    <a:pt x="0" y="280"/>
                  </a:moveTo>
                  <a:lnTo>
                    <a:pt x="15" y="256"/>
                  </a:lnTo>
                  <a:lnTo>
                    <a:pt x="31" y="234"/>
                  </a:lnTo>
                  <a:lnTo>
                    <a:pt x="62" y="194"/>
                  </a:lnTo>
                  <a:lnTo>
                    <a:pt x="93" y="156"/>
                  </a:lnTo>
                  <a:lnTo>
                    <a:pt x="124" y="122"/>
                  </a:lnTo>
                  <a:lnTo>
                    <a:pt x="153" y="89"/>
                  </a:lnTo>
                  <a:lnTo>
                    <a:pt x="184" y="5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27800" y="5106600"/>
              <a:ext cx="186120" cy="145800"/>
            </a:xfrm>
            <a:custGeom>
              <a:avLst/>
              <a:gdLst/>
              <a:ahLst/>
              <a:rect l="l" t="t" r="r" b="b"/>
              <a:pathLst>
                <a:path w="246" h="198">
                  <a:moveTo>
                    <a:pt x="0" y="198"/>
                  </a:moveTo>
                  <a:lnTo>
                    <a:pt x="31" y="168"/>
                  </a:lnTo>
                  <a:lnTo>
                    <a:pt x="62" y="142"/>
                  </a:lnTo>
                  <a:lnTo>
                    <a:pt x="93" y="115"/>
                  </a:lnTo>
                  <a:lnTo>
                    <a:pt x="122" y="92"/>
                  </a:lnTo>
                  <a:lnTo>
                    <a:pt x="184" y="4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13920" y="4990680"/>
              <a:ext cx="185760" cy="115920"/>
            </a:xfrm>
            <a:custGeom>
              <a:avLst/>
              <a:gdLst/>
              <a:ahLst/>
              <a:rect l="l" t="t" r="r" b="b"/>
              <a:pathLst>
                <a:path w="246" h="155">
                  <a:moveTo>
                    <a:pt x="0" y="155"/>
                  </a:moveTo>
                  <a:lnTo>
                    <a:pt x="62" y="112"/>
                  </a:lnTo>
                  <a:lnTo>
                    <a:pt x="122" y="73"/>
                  </a:lnTo>
                  <a:lnTo>
                    <a:pt x="184" y="3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99680" y="4898160"/>
              <a:ext cx="187200" cy="92160"/>
            </a:xfrm>
            <a:custGeom>
              <a:avLst/>
              <a:gdLst/>
              <a:ahLst/>
              <a:rect l="l" t="t" r="r" b="b"/>
              <a:pathLst>
                <a:path w="247" h="125">
                  <a:moveTo>
                    <a:pt x="0" y="125"/>
                  </a:moveTo>
                  <a:lnTo>
                    <a:pt x="62" y="92"/>
                  </a:lnTo>
                  <a:lnTo>
                    <a:pt x="124" y="59"/>
                  </a:lnTo>
                  <a:lnTo>
                    <a:pt x="186" y="30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87240" y="4819320"/>
              <a:ext cx="185760" cy="78480"/>
            </a:xfrm>
            <a:custGeom>
              <a:avLst/>
              <a:gdLst/>
              <a:ahLst/>
              <a:rect l="l" t="t" r="r" b="b"/>
              <a:pathLst>
                <a:path w="246" h="106">
                  <a:moveTo>
                    <a:pt x="0" y="106"/>
                  </a:moveTo>
                  <a:lnTo>
                    <a:pt x="62" y="78"/>
                  </a:lnTo>
                  <a:lnTo>
                    <a:pt x="124" y="5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673000" y="4750920"/>
              <a:ext cx="186120" cy="68400"/>
            </a:xfrm>
            <a:custGeom>
              <a:avLst/>
              <a:gdLst/>
              <a:ahLst/>
              <a:rect l="l" t="t" r="r" b="b"/>
              <a:pathLst>
                <a:path w="246" h="91">
                  <a:moveTo>
                    <a:pt x="0" y="91"/>
                  </a:moveTo>
                  <a:lnTo>
                    <a:pt x="62" y="68"/>
                  </a:lnTo>
                  <a:lnTo>
                    <a:pt x="123" y="4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59120" y="4689720"/>
              <a:ext cx="185760" cy="60840"/>
            </a:xfrm>
            <a:custGeom>
              <a:avLst/>
              <a:gdLst/>
              <a:ahLst/>
              <a:rect l="l" t="t" r="r" b="b"/>
              <a:pathLst>
                <a:path w="247" h="81">
                  <a:moveTo>
                    <a:pt x="0" y="81"/>
                  </a:moveTo>
                  <a:lnTo>
                    <a:pt x="123" y="40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4880" y="4636080"/>
              <a:ext cx="187200" cy="53640"/>
            </a:xfrm>
            <a:custGeom>
              <a:avLst/>
              <a:gdLst/>
              <a:ahLst/>
              <a:rect l="l" t="t" r="r" b="b"/>
              <a:pathLst>
                <a:path w="247" h="74">
                  <a:moveTo>
                    <a:pt x="0" y="74"/>
                  </a:moveTo>
                  <a:lnTo>
                    <a:pt x="123" y="37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87240" y="4990680"/>
              <a:ext cx="185760" cy="356760"/>
            </a:xfrm>
            <a:custGeom>
              <a:avLst/>
              <a:gdLst/>
              <a:ahLst/>
              <a:rect l="l" t="t" r="r" b="b"/>
              <a:pathLst>
                <a:path w="246" h="479">
                  <a:moveTo>
                    <a:pt x="0" y="479"/>
                  </a:moveTo>
                  <a:lnTo>
                    <a:pt x="31" y="417"/>
                  </a:lnTo>
                  <a:lnTo>
                    <a:pt x="62" y="356"/>
                  </a:lnTo>
                  <a:lnTo>
                    <a:pt x="93" y="291"/>
                  </a:lnTo>
                  <a:lnTo>
                    <a:pt x="123" y="227"/>
                  </a:lnTo>
                  <a:lnTo>
                    <a:pt x="154" y="166"/>
                  </a:lnTo>
                  <a:lnTo>
                    <a:pt x="185" y="107"/>
                  </a:lnTo>
                  <a:lnTo>
                    <a:pt x="201" y="79"/>
                  </a:lnTo>
                  <a:lnTo>
                    <a:pt x="216" y="51"/>
                  </a:lnTo>
                  <a:lnTo>
                    <a:pt x="232" y="2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73000" y="4783680"/>
              <a:ext cx="186120" cy="206640"/>
            </a:xfrm>
            <a:custGeom>
              <a:avLst/>
              <a:gdLst/>
              <a:ahLst/>
              <a:rect l="l" t="t" r="r" b="b"/>
              <a:pathLst>
                <a:path w="246" h="278">
                  <a:moveTo>
                    <a:pt x="0" y="278"/>
                  </a:moveTo>
                  <a:lnTo>
                    <a:pt x="15" y="255"/>
                  </a:lnTo>
                  <a:lnTo>
                    <a:pt x="31" y="234"/>
                  </a:lnTo>
                  <a:lnTo>
                    <a:pt x="62" y="193"/>
                  </a:lnTo>
                  <a:lnTo>
                    <a:pt x="93" y="156"/>
                  </a:lnTo>
                  <a:lnTo>
                    <a:pt x="123" y="122"/>
                  </a:lnTo>
                  <a:lnTo>
                    <a:pt x="154" y="90"/>
                  </a:lnTo>
                  <a:lnTo>
                    <a:pt x="185" y="5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59120" y="4636080"/>
              <a:ext cx="185760" cy="14724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0" y="199"/>
                  </a:moveTo>
                  <a:lnTo>
                    <a:pt x="31" y="170"/>
                  </a:lnTo>
                  <a:lnTo>
                    <a:pt x="62" y="143"/>
                  </a:lnTo>
                  <a:lnTo>
                    <a:pt x="93" y="117"/>
                  </a:lnTo>
                  <a:lnTo>
                    <a:pt x="123" y="91"/>
                  </a:lnTo>
                  <a:lnTo>
                    <a:pt x="185" y="44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44880" y="4521600"/>
              <a:ext cx="187200" cy="114120"/>
            </a:xfrm>
            <a:custGeom>
              <a:avLst/>
              <a:gdLst/>
              <a:ahLst/>
              <a:rect l="l" t="t" r="r" b="b"/>
              <a:pathLst>
                <a:path w="247" h="153">
                  <a:moveTo>
                    <a:pt x="0" y="153"/>
                  </a:moveTo>
                  <a:lnTo>
                    <a:pt x="61" y="110"/>
                  </a:lnTo>
                  <a:lnTo>
                    <a:pt x="123" y="72"/>
                  </a:lnTo>
                  <a:lnTo>
                    <a:pt x="185" y="35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32440" y="4428000"/>
              <a:ext cx="185760" cy="93600"/>
            </a:xfrm>
            <a:custGeom>
              <a:avLst/>
              <a:gdLst/>
              <a:ahLst/>
              <a:rect l="l" t="t" r="r" b="b"/>
              <a:pathLst>
                <a:path w="246" h="125">
                  <a:moveTo>
                    <a:pt x="0" y="125"/>
                  </a:moveTo>
                  <a:lnTo>
                    <a:pt x="62" y="91"/>
                  </a:lnTo>
                  <a:lnTo>
                    <a:pt x="124" y="59"/>
                  </a:lnTo>
                  <a:lnTo>
                    <a:pt x="184" y="2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18200" y="4348800"/>
              <a:ext cx="186120" cy="78840"/>
            </a:xfrm>
            <a:custGeom>
              <a:avLst/>
              <a:gdLst/>
              <a:ahLst/>
              <a:rect l="l" t="t" r="r" b="b"/>
              <a:pathLst>
                <a:path w="246" h="106">
                  <a:moveTo>
                    <a:pt x="0" y="106"/>
                  </a:moveTo>
                  <a:lnTo>
                    <a:pt x="62" y="78"/>
                  </a:lnTo>
                  <a:lnTo>
                    <a:pt x="122" y="5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04320" y="4280400"/>
              <a:ext cx="185760" cy="68400"/>
            </a:xfrm>
            <a:custGeom>
              <a:avLst/>
              <a:gdLst/>
              <a:ahLst/>
              <a:rect l="l" t="t" r="r" b="b"/>
              <a:pathLst>
                <a:path w="246" h="93">
                  <a:moveTo>
                    <a:pt x="0" y="93"/>
                  </a:moveTo>
                  <a:lnTo>
                    <a:pt x="122" y="4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90080" y="4219560"/>
              <a:ext cx="186120" cy="60480"/>
            </a:xfrm>
            <a:custGeom>
              <a:avLst/>
              <a:gdLst/>
              <a:ahLst/>
              <a:rect l="l" t="t" r="r" b="b"/>
              <a:pathLst>
                <a:path w="248" h="81">
                  <a:moveTo>
                    <a:pt x="0" y="81"/>
                  </a:moveTo>
                  <a:lnTo>
                    <a:pt x="124" y="40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76200" y="4165920"/>
              <a:ext cx="185760" cy="53640"/>
            </a:xfrm>
            <a:custGeom>
              <a:avLst/>
              <a:gdLst/>
              <a:ahLst/>
              <a:rect l="l" t="t" r="r" b="b"/>
              <a:pathLst>
                <a:path w="246" h="72">
                  <a:moveTo>
                    <a:pt x="0" y="72"/>
                  </a:moveTo>
                  <a:lnTo>
                    <a:pt x="123" y="3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62320" y="4116600"/>
              <a:ext cx="185760" cy="48960"/>
            </a:xfrm>
            <a:custGeom>
              <a:avLst/>
              <a:gdLst/>
              <a:ahLst/>
              <a:rect l="l" t="t" r="r" b="b"/>
              <a:pathLst>
                <a:path w="246" h="67">
                  <a:moveTo>
                    <a:pt x="0" y="67"/>
                  </a:moveTo>
                  <a:lnTo>
                    <a:pt x="122" y="3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48080" y="4073400"/>
              <a:ext cx="186120" cy="43200"/>
            </a:xfrm>
            <a:custGeom>
              <a:avLst/>
              <a:gdLst/>
              <a:ahLst/>
              <a:rect l="l" t="t" r="r" b="b"/>
              <a:pathLst>
                <a:path w="246" h="59">
                  <a:moveTo>
                    <a:pt x="0" y="59"/>
                  </a:moveTo>
                  <a:lnTo>
                    <a:pt x="122" y="30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34200" y="4032000"/>
              <a:ext cx="187200" cy="41400"/>
            </a:xfrm>
            <a:custGeom>
              <a:avLst/>
              <a:gdLst/>
              <a:ahLst/>
              <a:rect l="l" t="t" r="r" b="b"/>
              <a:pathLst>
                <a:path w="247" h="56">
                  <a:moveTo>
                    <a:pt x="0" y="56"/>
                  </a:moveTo>
                  <a:lnTo>
                    <a:pt x="123" y="28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21760" y="3993120"/>
              <a:ext cx="185760" cy="38520"/>
            </a:xfrm>
            <a:custGeom>
              <a:avLst/>
              <a:gdLst/>
              <a:ahLst/>
              <a:rect l="l" t="t" r="r" b="b"/>
              <a:pathLst>
                <a:path w="246" h="51">
                  <a:moveTo>
                    <a:pt x="0" y="51"/>
                  </a:moveTo>
                  <a:lnTo>
                    <a:pt x="124" y="2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07520" y="3957120"/>
              <a:ext cx="185760" cy="35640"/>
            </a:xfrm>
            <a:custGeom>
              <a:avLst/>
              <a:gdLst/>
              <a:ahLst/>
              <a:rect l="l" t="t" r="r" b="b"/>
              <a:pathLst>
                <a:path w="246" h="47">
                  <a:moveTo>
                    <a:pt x="0" y="47"/>
                  </a:moveTo>
                  <a:lnTo>
                    <a:pt x="122" y="2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90080" y="4750920"/>
              <a:ext cx="186120" cy="501480"/>
            </a:xfrm>
            <a:custGeom>
              <a:avLst/>
              <a:gdLst/>
              <a:ahLst/>
              <a:rect l="l" t="t" r="r" b="b"/>
              <a:pathLst>
                <a:path w="248" h="675">
                  <a:moveTo>
                    <a:pt x="0" y="675"/>
                  </a:moveTo>
                  <a:lnTo>
                    <a:pt x="31" y="589"/>
                  </a:lnTo>
                  <a:lnTo>
                    <a:pt x="62" y="504"/>
                  </a:lnTo>
                  <a:lnTo>
                    <a:pt x="124" y="330"/>
                  </a:lnTo>
                  <a:lnTo>
                    <a:pt x="155" y="244"/>
                  </a:lnTo>
                  <a:lnTo>
                    <a:pt x="186" y="160"/>
                  </a:lnTo>
                  <a:lnTo>
                    <a:pt x="217" y="79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76200" y="4334040"/>
              <a:ext cx="185760" cy="416520"/>
            </a:xfrm>
            <a:custGeom>
              <a:avLst/>
              <a:gdLst/>
              <a:ahLst/>
              <a:rect l="l" t="t" r="r" b="b"/>
              <a:pathLst>
                <a:path w="246" h="560">
                  <a:moveTo>
                    <a:pt x="0" y="560"/>
                  </a:moveTo>
                  <a:lnTo>
                    <a:pt x="31" y="483"/>
                  </a:lnTo>
                  <a:lnTo>
                    <a:pt x="61" y="405"/>
                  </a:lnTo>
                  <a:lnTo>
                    <a:pt x="92" y="330"/>
                  </a:lnTo>
                  <a:lnTo>
                    <a:pt x="123" y="256"/>
                  </a:lnTo>
                  <a:lnTo>
                    <a:pt x="153" y="186"/>
                  </a:lnTo>
                  <a:lnTo>
                    <a:pt x="169" y="152"/>
                  </a:lnTo>
                  <a:lnTo>
                    <a:pt x="184" y="119"/>
                  </a:lnTo>
                  <a:lnTo>
                    <a:pt x="200" y="87"/>
                  </a:lnTo>
                  <a:lnTo>
                    <a:pt x="215" y="57"/>
                  </a:lnTo>
                  <a:lnTo>
                    <a:pt x="231" y="2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62320" y="4107960"/>
              <a:ext cx="185760" cy="226080"/>
            </a:xfrm>
            <a:custGeom>
              <a:avLst/>
              <a:gdLst/>
              <a:ahLst/>
              <a:rect l="l" t="t" r="r" b="b"/>
              <a:pathLst>
                <a:path w="246" h="304">
                  <a:moveTo>
                    <a:pt x="0" y="304"/>
                  </a:moveTo>
                  <a:lnTo>
                    <a:pt x="14" y="277"/>
                  </a:lnTo>
                  <a:lnTo>
                    <a:pt x="31" y="254"/>
                  </a:lnTo>
                  <a:lnTo>
                    <a:pt x="45" y="230"/>
                  </a:lnTo>
                  <a:lnTo>
                    <a:pt x="61" y="208"/>
                  </a:lnTo>
                  <a:lnTo>
                    <a:pt x="76" y="188"/>
                  </a:lnTo>
                  <a:lnTo>
                    <a:pt x="92" y="167"/>
                  </a:lnTo>
                  <a:lnTo>
                    <a:pt x="122" y="130"/>
                  </a:lnTo>
                  <a:lnTo>
                    <a:pt x="153" y="96"/>
                  </a:lnTo>
                  <a:lnTo>
                    <a:pt x="184" y="6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48080" y="3951720"/>
              <a:ext cx="186120" cy="156240"/>
            </a:xfrm>
            <a:custGeom>
              <a:avLst/>
              <a:gdLst/>
              <a:ahLst/>
              <a:rect l="l" t="t" r="r" b="b"/>
              <a:pathLst>
                <a:path w="246" h="210">
                  <a:moveTo>
                    <a:pt x="0" y="210"/>
                  </a:moveTo>
                  <a:lnTo>
                    <a:pt x="31" y="180"/>
                  </a:lnTo>
                  <a:lnTo>
                    <a:pt x="61" y="150"/>
                  </a:lnTo>
                  <a:lnTo>
                    <a:pt x="92" y="122"/>
                  </a:lnTo>
                  <a:lnTo>
                    <a:pt x="122" y="96"/>
                  </a:lnTo>
                  <a:lnTo>
                    <a:pt x="153" y="70"/>
                  </a:lnTo>
                  <a:lnTo>
                    <a:pt x="184" y="4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34200" y="3832560"/>
              <a:ext cx="187200" cy="118800"/>
            </a:xfrm>
            <a:custGeom>
              <a:avLst/>
              <a:gdLst/>
              <a:ahLst/>
              <a:rect l="l" t="t" r="r" b="b"/>
              <a:pathLst>
                <a:path w="247" h="161">
                  <a:moveTo>
                    <a:pt x="0" y="161"/>
                  </a:moveTo>
                  <a:lnTo>
                    <a:pt x="62" y="117"/>
                  </a:lnTo>
                  <a:lnTo>
                    <a:pt x="123" y="75"/>
                  </a:lnTo>
                  <a:lnTo>
                    <a:pt x="185" y="37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721760" y="3734280"/>
              <a:ext cx="185760" cy="97920"/>
            </a:xfrm>
            <a:custGeom>
              <a:avLst/>
              <a:gdLst/>
              <a:ahLst/>
              <a:rect l="l" t="t" r="r" b="b"/>
              <a:pathLst>
                <a:path w="246" h="131">
                  <a:moveTo>
                    <a:pt x="0" y="131"/>
                  </a:moveTo>
                  <a:lnTo>
                    <a:pt x="62" y="96"/>
                  </a:lnTo>
                  <a:lnTo>
                    <a:pt x="124" y="62"/>
                  </a:lnTo>
                  <a:lnTo>
                    <a:pt x="184" y="3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07520" y="3654000"/>
              <a:ext cx="185760" cy="80280"/>
            </a:xfrm>
            <a:custGeom>
              <a:avLst/>
              <a:gdLst/>
              <a:ahLst/>
              <a:rect l="l" t="t" r="r" b="b"/>
              <a:pathLst>
                <a:path w="246" h="109">
                  <a:moveTo>
                    <a:pt x="0" y="109"/>
                  </a:moveTo>
                  <a:lnTo>
                    <a:pt x="62" y="80"/>
                  </a:lnTo>
                  <a:lnTo>
                    <a:pt x="122" y="52"/>
                  </a:lnTo>
                  <a:lnTo>
                    <a:pt x="184" y="2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93280" y="3582360"/>
              <a:ext cx="186120" cy="71280"/>
            </a:xfrm>
            <a:custGeom>
              <a:avLst/>
              <a:gdLst/>
              <a:ahLst/>
              <a:rect l="l" t="t" r="r" b="b"/>
              <a:pathLst>
                <a:path w="246" h="94">
                  <a:moveTo>
                    <a:pt x="0" y="94"/>
                  </a:moveTo>
                  <a:lnTo>
                    <a:pt x="62" y="69"/>
                  </a:lnTo>
                  <a:lnTo>
                    <a:pt x="122" y="4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79400" y="3519720"/>
              <a:ext cx="187200" cy="62280"/>
            </a:xfrm>
            <a:custGeom>
              <a:avLst/>
              <a:gdLst/>
              <a:ahLst/>
              <a:rect l="l" t="t" r="r" b="b"/>
              <a:pathLst>
                <a:path w="248" h="84">
                  <a:moveTo>
                    <a:pt x="0" y="84"/>
                  </a:moveTo>
                  <a:lnTo>
                    <a:pt x="62" y="62"/>
                  </a:lnTo>
                  <a:lnTo>
                    <a:pt x="124" y="41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66960" y="3924720"/>
              <a:ext cx="185760" cy="711360"/>
            </a:xfrm>
            <a:custGeom>
              <a:avLst/>
              <a:gdLst/>
              <a:ahLst/>
              <a:rect l="l" t="t" r="r" b="b"/>
              <a:pathLst>
                <a:path w="246" h="955">
                  <a:moveTo>
                    <a:pt x="0" y="955"/>
                  </a:moveTo>
                  <a:lnTo>
                    <a:pt x="31" y="834"/>
                  </a:lnTo>
                  <a:lnTo>
                    <a:pt x="62" y="713"/>
                  </a:lnTo>
                  <a:lnTo>
                    <a:pt x="93" y="591"/>
                  </a:lnTo>
                  <a:lnTo>
                    <a:pt x="122" y="469"/>
                  </a:lnTo>
                  <a:lnTo>
                    <a:pt x="153" y="348"/>
                  </a:lnTo>
                  <a:lnTo>
                    <a:pt x="184" y="229"/>
                  </a:lnTo>
                  <a:lnTo>
                    <a:pt x="215" y="112"/>
                  </a:lnTo>
                  <a:lnTo>
                    <a:pt x="231" y="5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652720" y="3320280"/>
              <a:ext cx="185760" cy="604080"/>
            </a:xfrm>
            <a:custGeom>
              <a:avLst/>
              <a:gdLst/>
              <a:ahLst/>
              <a:rect l="l" t="t" r="r" b="b"/>
              <a:pathLst>
                <a:path w="246" h="811">
                  <a:moveTo>
                    <a:pt x="0" y="811"/>
                  </a:moveTo>
                  <a:lnTo>
                    <a:pt x="31" y="699"/>
                  </a:lnTo>
                  <a:lnTo>
                    <a:pt x="62" y="587"/>
                  </a:lnTo>
                  <a:lnTo>
                    <a:pt x="93" y="477"/>
                  </a:lnTo>
                  <a:lnTo>
                    <a:pt x="107" y="422"/>
                  </a:lnTo>
                  <a:lnTo>
                    <a:pt x="122" y="368"/>
                  </a:lnTo>
                  <a:lnTo>
                    <a:pt x="138" y="316"/>
                  </a:lnTo>
                  <a:lnTo>
                    <a:pt x="153" y="265"/>
                  </a:lnTo>
                  <a:lnTo>
                    <a:pt x="169" y="215"/>
                  </a:lnTo>
                  <a:lnTo>
                    <a:pt x="184" y="168"/>
                  </a:lnTo>
                  <a:lnTo>
                    <a:pt x="200" y="122"/>
                  </a:lnTo>
                  <a:lnTo>
                    <a:pt x="215" y="79"/>
                  </a:lnTo>
                  <a:lnTo>
                    <a:pt x="231" y="3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38480" y="3051000"/>
              <a:ext cx="186120" cy="269280"/>
            </a:xfrm>
            <a:custGeom>
              <a:avLst/>
              <a:gdLst/>
              <a:ahLst/>
              <a:rect l="l" t="t" r="r" b="b"/>
              <a:pathLst>
                <a:path w="246" h="363">
                  <a:moveTo>
                    <a:pt x="0" y="363"/>
                  </a:moveTo>
                  <a:lnTo>
                    <a:pt x="14" y="327"/>
                  </a:lnTo>
                  <a:lnTo>
                    <a:pt x="31" y="295"/>
                  </a:lnTo>
                  <a:lnTo>
                    <a:pt x="45" y="265"/>
                  </a:lnTo>
                  <a:lnTo>
                    <a:pt x="62" y="237"/>
                  </a:lnTo>
                  <a:lnTo>
                    <a:pt x="76" y="212"/>
                  </a:lnTo>
                  <a:lnTo>
                    <a:pt x="93" y="189"/>
                  </a:lnTo>
                  <a:lnTo>
                    <a:pt x="107" y="167"/>
                  </a:lnTo>
                  <a:lnTo>
                    <a:pt x="122" y="146"/>
                  </a:lnTo>
                  <a:lnTo>
                    <a:pt x="138" y="125"/>
                  </a:lnTo>
                  <a:lnTo>
                    <a:pt x="153" y="108"/>
                  </a:lnTo>
                  <a:lnTo>
                    <a:pt x="184" y="71"/>
                  </a:lnTo>
                  <a:lnTo>
                    <a:pt x="215" y="3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24600" y="2873880"/>
              <a:ext cx="187200" cy="177120"/>
            </a:xfrm>
            <a:custGeom>
              <a:avLst/>
              <a:gdLst/>
              <a:ahLst/>
              <a:rect l="l" t="t" r="r" b="b"/>
              <a:pathLst>
                <a:path w="247" h="237">
                  <a:moveTo>
                    <a:pt x="0" y="237"/>
                  </a:moveTo>
                  <a:lnTo>
                    <a:pt x="31" y="202"/>
                  </a:lnTo>
                  <a:lnTo>
                    <a:pt x="62" y="168"/>
                  </a:lnTo>
                  <a:lnTo>
                    <a:pt x="93" y="137"/>
                  </a:lnTo>
                  <a:lnTo>
                    <a:pt x="124" y="107"/>
                  </a:lnTo>
                  <a:lnTo>
                    <a:pt x="154" y="80"/>
                  </a:lnTo>
                  <a:lnTo>
                    <a:pt x="185" y="52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12160" y="2744640"/>
              <a:ext cx="185760" cy="129240"/>
            </a:xfrm>
            <a:custGeom>
              <a:avLst/>
              <a:gdLst/>
              <a:ahLst/>
              <a:rect l="l" t="t" r="r" b="b"/>
              <a:pathLst>
                <a:path w="246" h="175">
                  <a:moveTo>
                    <a:pt x="0" y="175"/>
                  </a:moveTo>
                  <a:lnTo>
                    <a:pt x="31" y="150"/>
                  </a:lnTo>
                  <a:lnTo>
                    <a:pt x="62" y="126"/>
                  </a:lnTo>
                  <a:lnTo>
                    <a:pt x="124" y="81"/>
                  </a:lnTo>
                  <a:lnTo>
                    <a:pt x="184" y="3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97920" y="2640240"/>
              <a:ext cx="185760" cy="104040"/>
            </a:xfrm>
            <a:custGeom>
              <a:avLst/>
              <a:gdLst/>
              <a:ahLst/>
              <a:rect l="l" t="t" r="r" b="b"/>
              <a:pathLst>
                <a:path w="246" h="140">
                  <a:moveTo>
                    <a:pt x="0" y="140"/>
                  </a:moveTo>
                  <a:lnTo>
                    <a:pt x="62" y="101"/>
                  </a:lnTo>
                  <a:lnTo>
                    <a:pt x="123" y="66"/>
                  </a:lnTo>
                  <a:lnTo>
                    <a:pt x="184" y="3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83680" y="2553840"/>
              <a:ext cx="186120" cy="86400"/>
            </a:xfrm>
            <a:custGeom>
              <a:avLst/>
              <a:gdLst/>
              <a:ahLst/>
              <a:rect l="l" t="t" r="r" b="b"/>
              <a:pathLst>
                <a:path w="246" h="117">
                  <a:moveTo>
                    <a:pt x="0" y="117"/>
                  </a:moveTo>
                  <a:lnTo>
                    <a:pt x="62" y="86"/>
                  </a:lnTo>
                  <a:lnTo>
                    <a:pt x="123" y="56"/>
                  </a:lnTo>
                  <a:lnTo>
                    <a:pt x="184" y="2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70160" y="2479680"/>
              <a:ext cx="185760" cy="74160"/>
            </a:xfrm>
            <a:custGeom>
              <a:avLst/>
              <a:gdLst/>
              <a:ahLst/>
              <a:rect l="l" t="t" r="r" b="b"/>
              <a:pathLst>
                <a:path w="248" h="98">
                  <a:moveTo>
                    <a:pt x="0" y="98"/>
                  </a:moveTo>
                  <a:lnTo>
                    <a:pt x="62" y="72"/>
                  </a:lnTo>
                  <a:lnTo>
                    <a:pt x="124" y="47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55920" y="2415240"/>
              <a:ext cx="186120" cy="64080"/>
            </a:xfrm>
            <a:custGeom>
              <a:avLst/>
              <a:gdLst/>
              <a:ahLst/>
              <a:rect l="l" t="t" r="r" b="b"/>
              <a:pathLst>
                <a:path w="246" h="87">
                  <a:moveTo>
                    <a:pt x="0" y="87"/>
                  </a:moveTo>
                  <a:lnTo>
                    <a:pt x="124" y="4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2040" y="2358720"/>
              <a:ext cx="185760" cy="56520"/>
            </a:xfrm>
            <a:custGeom>
              <a:avLst/>
              <a:gdLst/>
              <a:ahLst/>
              <a:rect l="l" t="t" r="r" b="b"/>
              <a:pathLst>
                <a:path w="246" h="77">
                  <a:moveTo>
                    <a:pt x="0" y="77"/>
                  </a:moveTo>
                  <a:lnTo>
                    <a:pt x="62" y="57"/>
                  </a:lnTo>
                  <a:lnTo>
                    <a:pt x="122" y="3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21760" y="4280400"/>
              <a:ext cx="185760" cy="1067040"/>
            </a:xfrm>
            <a:custGeom>
              <a:avLst/>
              <a:gdLst/>
              <a:ahLst/>
              <a:rect l="l" t="t" r="r" b="b"/>
              <a:pathLst>
                <a:path w="246" h="1433">
                  <a:moveTo>
                    <a:pt x="0" y="1433"/>
                  </a:moveTo>
                  <a:lnTo>
                    <a:pt x="15" y="1342"/>
                  </a:lnTo>
                  <a:lnTo>
                    <a:pt x="31" y="1251"/>
                  </a:lnTo>
                  <a:lnTo>
                    <a:pt x="46" y="1156"/>
                  </a:lnTo>
                  <a:lnTo>
                    <a:pt x="62" y="1062"/>
                  </a:lnTo>
                  <a:lnTo>
                    <a:pt x="93" y="871"/>
                  </a:lnTo>
                  <a:lnTo>
                    <a:pt x="108" y="775"/>
                  </a:lnTo>
                  <a:lnTo>
                    <a:pt x="122" y="680"/>
                  </a:lnTo>
                  <a:lnTo>
                    <a:pt x="139" y="588"/>
                  </a:lnTo>
                  <a:lnTo>
                    <a:pt x="153" y="496"/>
                  </a:lnTo>
                  <a:lnTo>
                    <a:pt x="170" y="405"/>
                  </a:lnTo>
                  <a:lnTo>
                    <a:pt x="184" y="318"/>
                  </a:lnTo>
                  <a:lnTo>
                    <a:pt x="200" y="233"/>
                  </a:lnTo>
                  <a:lnTo>
                    <a:pt x="215" y="152"/>
                  </a:lnTo>
                  <a:lnTo>
                    <a:pt x="231" y="73"/>
                  </a:lnTo>
                  <a:lnTo>
                    <a:pt x="239" y="3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07520" y="3637440"/>
              <a:ext cx="185760" cy="642960"/>
            </a:xfrm>
            <a:custGeom>
              <a:avLst/>
              <a:gdLst/>
              <a:ahLst/>
              <a:rect l="l" t="t" r="r" b="b"/>
              <a:pathLst>
                <a:path w="246" h="864">
                  <a:moveTo>
                    <a:pt x="0" y="864"/>
                  </a:moveTo>
                  <a:lnTo>
                    <a:pt x="15" y="793"/>
                  </a:lnTo>
                  <a:lnTo>
                    <a:pt x="31" y="725"/>
                  </a:lnTo>
                  <a:lnTo>
                    <a:pt x="46" y="660"/>
                  </a:lnTo>
                  <a:lnTo>
                    <a:pt x="62" y="599"/>
                  </a:lnTo>
                  <a:lnTo>
                    <a:pt x="77" y="538"/>
                  </a:lnTo>
                  <a:lnTo>
                    <a:pt x="93" y="481"/>
                  </a:lnTo>
                  <a:lnTo>
                    <a:pt x="108" y="426"/>
                  </a:lnTo>
                  <a:lnTo>
                    <a:pt x="122" y="372"/>
                  </a:lnTo>
                  <a:lnTo>
                    <a:pt x="139" y="320"/>
                  </a:lnTo>
                  <a:lnTo>
                    <a:pt x="153" y="271"/>
                  </a:lnTo>
                  <a:lnTo>
                    <a:pt x="170" y="223"/>
                  </a:lnTo>
                  <a:lnTo>
                    <a:pt x="184" y="176"/>
                  </a:lnTo>
                  <a:lnTo>
                    <a:pt x="201" y="130"/>
                  </a:lnTo>
                  <a:lnTo>
                    <a:pt x="215" y="8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93280" y="3283200"/>
              <a:ext cx="186120" cy="353880"/>
            </a:xfrm>
            <a:custGeom>
              <a:avLst/>
              <a:gdLst/>
              <a:ahLst/>
              <a:rect l="l" t="t" r="r" b="b"/>
              <a:pathLst>
                <a:path w="246" h="477">
                  <a:moveTo>
                    <a:pt x="0" y="477"/>
                  </a:moveTo>
                  <a:lnTo>
                    <a:pt x="15" y="436"/>
                  </a:lnTo>
                  <a:lnTo>
                    <a:pt x="31" y="398"/>
                  </a:lnTo>
                  <a:lnTo>
                    <a:pt x="46" y="362"/>
                  </a:lnTo>
                  <a:lnTo>
                    <a:pt x="62" y="329"/>
                  </a:lnTo>
                  <a:lnTo>
                    <a:pt x="77" y="296"/>
                  </a:lnTo>
                  <a:lnTo>
                    <a:pt x="93" y="265"/>
                  </a:lnTo>
                  <a:lnTo>
                    <a:pt x="108" y="236"/>
                  </a:lnTo>
                  <a:lnTo>
                    <a:pt x="122" y="208"/>
                  </a:lnTo>
                  <a:lnTo>
                    <a:pt x="153" y="155"/>
                  </a:lnTo>
                  <a:lnTo>
                    <a:pt x="184" y="103"/>
                  </a:lnTo>
                  <a:lnTo>
                    <a:pt x="215" y="5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79400" y="3006360"/>
              <a:ext cx="187200" cy="276480"/>
            </a:xfrm>
            <a:custGeom>
              <a:avLst/>
              <a:gdLst/>
              <a:ahLst/>
              <a:rect l="l" t="t" r="r" b="b"/>
              <a:pathLst>
                <a:path w="248" h="371">
                  <a:moveTo>
                    <a:pt x="0" y="371"/>
                  </a:moveTo>
                  <a:lnTo>
                    <a:pt x="31" y="319"/>
                  </a:lnTo>
                  <a:lnTo>
                    <a:pt x="62" y="268"/>
                  </a:lnTo>
                  <a:lnTo>
                    <a:pt x="93" y="219"/>
                  </a:lnTo>
                  <a:lnTo>
                    <a:pt x="124" y="174"/>
                  </a:lnTo>
                  <a:lnTo>
                    <a:pt x="155" y="128"/>
                  </a:lnTo>
                  <a:lnTo>
                    <a:pt x="186" y="84"/>
                  </a:lnTo>
                  <a:lnTo>
                    <a:pt x="217" y="41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66960" y="2799360"/>
              <a:ext cx="185760" cy="206640"/>
            </a:xfrm>
            <a:custGeom>
              <a:avLst/>
              <a:gdLst/>
              <a:ahLst/>
              <a:rect l="l" t="t" r="r" b="b"/>
              <a:pathLst>
                <a:path w="246" h="279">
                  <a:moveTo>
                    <a:pt x="0" y="279"/>
                  </a:moveTo>
                  <a:lnTo>
                    <a:pt x="31" y="239"/>
                  </a:lnTo>
                  <a:lnTo>
                    <a:pt x="62" y="202"/>
                  </a:lnTo>
                  <a:lnTo>
                    <a:pt x="93" y="168"/>
                  </a:lnTo>
                  <a:lnTo>
                    <a:pt x="123" y="134"/>
                  </a:lnTo>
                  <a:lnTo>
                    <a:pt x="184" y="68"/>
                  </a:lnTo>
                  <a:lnTo>
                    <a:pt x="215" y="3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52720" y="2590920"/>
              <a:ext cx="185760" cy="208440"/>
            </a:xfrm>
            <a:custGeom>
              <a:avLst/>
              <a:gdLst/>
              <a:ahLst/>
              <a:rect l="l" t="t" r="r" b="b"/>
              <a:pathLst>
                <a:path w="246" h="280">
                  <a:moveTo>
                    <a:pt x="0" y="280"/>
                  </a:moveTo>
                  <a:lnTo>
                    <a:pt x="31" y="245"/>
                  </a:lnTo>
                  <a:lnTo>
                    <a:pt x="62" y="208"/>
                  </a:lnTo>
                  <a:lnTo>
                    <a:pt x="122" y="136"/>
                  </a:lnTo>
                  <a:lnTo>
                    <a:pt x="153" y="99"/>
                  </a:lnTo>
                  <a:lnTo>
                    <a:pt x="184" y="65"/>
                  </a:lnTo>
                  <a:lnTo>
                    <a:pt x="215" y="3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38480" y="2442240"/>
              <a:ext cx="186120" cy="148680"/>
            </a:xfrm>
            <a:custGeom>
              <a:avLst/>
              <a:gdLst/>
              <a:ahLst/>
              <a:rect l="l" t="t" r="r" b="b"/>
              <a:pathLst>
                <a:path w="246" h="199">
                  <a:moveTo>
                    <a:pt x="0" y="199"/>
                  </a:moveTo>
                  <a:lnTo>
                    <a:pt x="31" y="170"/>
                  </a:lnTo>
                  <a:lnTo>
                    <a:pt x="62" y="143"/>
                  </a:lnTo>
                  <a:lnTo>
                    <a:pt x="93" y="117"/>
                  </a:lnTo>
                  <a:lnTo>
                    <a:pt x="122" y="92"/>
                  </a:lnTo>
                  <a:lnTo>
                    <a:pt x="184" y="4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24600" y="2328840"/>
              <a:ext cx="187200" cy="113040"/>
            </a:xfrm>
            <a:custGeom>
              <a:avLst/>
              <a:gdLst/>
              <a:ahLst/>
              <a:rect l="l" t="t" r="r" b="b"/>
              <a:pathLst>
                <a:path w="247" h="153">
                  <a:moveTo>
                    <a:pt x="0" y="153"/>
                  </a:moveTo>
                  <a:lnTo>
                    <a:pt x="62" y="111"/>
                  </a:lnTo>
                  <a:lnTo>
                    <a:pt x="124" y="72"/>
                  </a:lnTo>
                  <a:lnTo>
                    <a:pt x="185" y="36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12160" y="2235240"/>
              <a:ext cx="185760" cy="93600"/>
            </a:xfrm>
            <a:custGeom>
              <a:avLst/>
              <a:gdLst/>
              <a:ahLst/>
              <a:rect l="l" t="t" r="r" b="b"/>
              <a:pathLst>
                <a:path w="246" h="125">
                  <a:moveTo>
                    <a:pt x="0" y="125"/>
                  </a:moveTo>
                  <a:lnTo>
                    <a:pt x="62" y="91"/>
                  </a:lnTo>
                  <a:lnTo>
                    <a:pt x="124" y="59"/>
                  </a:lnTo>
                  <a:lnTo>
                    <a:pt x="184" y="2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97920" y="2156400"/>
              <a:ext cx="185760" cy="78480"/>
            </a:xfrm>
            <a:custGeom>
              <a:avLst/>
              <a:gdLst/>
              <a:ahLst/>
              <a:rect l="l" t="t" r="r" b="b"/>
              <a:pathLst>
                <a:path w="246" h="106">
                  <a:moveTo>
                    <a:pt x="0" y="106"/>
                  </a:moveTo>
                  <a:lnTo>
                    <a:pt x="62" y="78"/>
                  </a:lnTo>
                  <a:lnTo>
                    <a:pt x="123" y="5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583680" y="2088000"/>
              <a:ext cx="186120" cy="68400"/>
            </a:xfrm>
            <a:custGeom>
              <a:avLst/>
              <a:gdLst/>
              <a:ahLst/>
              <a:rect l="l" t="t" r="r" b="b"/>
              <a:pathLst>
                <a:path w="246" h="93">
                  <a:moveTo>
                    <a:pt x="0" y="93"/>
                  </a:moveTo>
                  <a:lnTo>
                    <a:pt x="123" y="4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70160" y="2026800"/>
              <a:ext cx="185760" cy="60840"/>
            </a:xfrm>
            <a:custGeom>
              <a:avLst/>
              <a:gdLst/>
              <a:ahLst/>
              <a:rect l="l" t="t" r="r" b="b"/>
              <a:pathLst>
                <a:path w="248" h="81">
                  <a:moveTo>
                    <a:pt x="0" y="81"/>
                  </a:moveTo>
                  <a:lnTo>
                    <a:pt x="124" y="40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55920" y="1973160"/>
              <a:ext cx="186120" cy="53640"/>
            </a:xfrm>
            <a:custGeom>
              <a:avLst/>
              <a:gdLst/>
              <a:ahLst/>
              <a:rect l="l" t="t" r="r" b="b"/>
              <a:pathLst>
                <a:path w="246" h="72">
                  <a:moveTo>
                    <a:pt x="0" y="72"/>
                  </a:moveTo>
                  <a:lnTo>
                    <a:pt x="124" y="3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42040" y="1924200"/>
              <a:ext cx="185760" cy="48600"/>
            </a:xfrm>
            <a:custGeom>
              <a:avLst/>
              <a:gdLst/>
              <a:ahLst/>
              <a:rect l="l" t="t" r="r" b="b"/>
              <a:pathLst>
                <a:path w="246" h="66">
                  <a:moveTo>
                    <a:pt x="0" y="66"/>
                  </a:moveTo>
                  <a:lnTo>
                    <a:pt x="122" y="3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21760" y="4280400"/>
              <a:ext cx="185760" cy="1067040"/>
            </a:xfrm>
            <a:custGeom>
              <a:avLst/>
              <a:gdLst/>
              <a:ahLst/>
              <a:rect l="l" t="t" r="r" b="b"/>
              <a:pathLst>
                <a:path w="246" h="1433">
                  <a:moveTo>
                    <a:pt x="0" y="1433"/>
                  </a:moveTo>
                  <a:lnTo>
                    <a:pt x="15" y="1342"/>
                  </a:lnTo>
                  <a:lnTo>
                    <a:pt x="31" y="1251"/>
                  </a:lnTo>
                  <a:lnTo>
                    <a:pt x="46" y="1156"/>
                  </a:lnTo>
                  <a:lnTo>
                    <a:pt x="62" y="1062"/>
                  </a:lnTo>
                  <a:lnTo>
                    <a:pt x="93" y="871"/>
                  </a:lnTo>
                  <a:lnTo>
                    <a:pt x="108" y="775"/>
                  </a:lnTo>
                  <a:lnTo>
                    <a:pt x="122" y="680"/>
                  </a:lnTo>
                  <a:lnTo>
                    <a:pt x="139" y="588"/>
                  </a:lnTo>
                  <a:lnTo>
                    <a:pt x="153" y="496"/>
                  </a:lnTo>
                  <a:lnTo>
                    <a:pt x="170" y="405"/>
                  </a:lnTo>
                  <a:lnTo>
                    <a:pt x="184" y="318"/>
                  </a:lnTo>
                  <a:lnTo>
                    <a:pt x="200" y="233"/>
                  </a:lnTo>
                  <a:lnTo>
                    <a:pt x="215" y="152"/>
                  </a:lnTo>
                  <a:lnTo>
                    <a:pt x="231" y="73"/>
                  </a:lnTo>
                  <a:lnTo>
                    <a:pt x="239" y="3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07520" y="3637440"/>
              <a:ext cx="185760" cy="642960"/>
            </a:xfrm>
            <a:custGeom>
              <a:avLst/>
              <a:gdLst/>
              <a:ahLst/>
              <a:rect l="l" t="t" r="r" b="b"/>
              <a:pathLst>
                <a:path w="246" h="864">
                  <a:moveTo>
                    <a:pt x="0" y="864"/>
                  </a:moveTo>
                  <a:lnTo>
                    <a:pt x="15" y="793"/>
                  </a:lnTo>
                  <a:lnTo>
                    <a:pt x="31" y="725"/>
                  </a:lnTo>
                  <a:lnTo>
                    <a:pt x="46" y="660"/>
                  </a:lnTo>
                  <a:lnTo>
                    <a:pt x="62" y="599"/>
                  </a:lnTo>
                  <a:lnTo>
                    <a:pt x="77" y="538"/>
                  </a:lnTo>
                  <a:lnTo>
                    <a:pt x="93" y="481"/>
                  </a:lnTo>
                  <a:lnTo>
                    <a:pt x="108" y="426"/>
                  </a:lnTo>
                  <a:lnTo>
                    <a:pt x="122" y="372"/>
                  </a:lnTo>
                  <a:lnTo>
                    <a:pt x="139" y="320"/>
                  </a:lnTo>
                  <a:lnTo>
                    <a:pt x="153" y="271"/>
                  </a:lnTo>
                  <a:lnTo>
                    <a:pt x="170" y="223"/>
                  </a:lnTo>
                  <a:lnTo>
                    <a:pt x="184" y="176"/>
                  </a:lnTo>
                  <a:lnTo>
                    <a:pt x="201" y="130"/>
                  </a:lnTo>
                  <a:lnTo>
                    <a:pt x="215" y="8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93280" y="3283200"/>
              <a:ext cx="186120" cy="353880"/>
            </a:xfrm>
            <a:custGeom>
              <a:avLst/>
              <a:gdLst/>
              <a:ahLst/>
              <a:rect l="l" t="t" r="r" b="b"/>
              <a:pathLst>
                <a:path w="246" h="477">
                  <a:moveTo>
                    <a:pt x="0" y="477"/>
                  </a:moveTo>
                  <a:lnTo>
                    <a:pt x="15" y="436"/>
                  </a:lnTo>
                  <a:lnTo>
                    <a:pt x="31" y="398"/>
                  </a:lnTo>
                  <a:lnTo>
                    <a:pt x="46" y="362"/>
                  </a:lnTo>
                  <a:lnTo>
                    <a:pt x="62" y="327"/>
                  </a:lnTo>
                  <a:lnTo>
                    <a:pt x="77" y="295"/>
                  </a:lnTo>
                  <a:lnTo>
                    <a:pt x="93" y="264"/>
                  </a:lnTo>
                  <a:lnTo>
                    <a:pt x="108" y="234"/>
                  </a:lnTo>
                  <a:lnTo>
                    <a:pt x="122" y="206"/>
                  </a:lnTo>
                  <a:lnTo>
                    <a:pt x="153" y="152"/>
                  </a:lnTo>
                  <a:lnTo>
                    <a:pt x="184" y="100"/>
                  </a:lnTo>
                  <a:lnTo>
                    <a:pt x="215" y="50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79400" y="3028680"/>
              <a:ext cx="187200" cy="254160"/>
            </a:xfrm>
            <a:custGeom>
              <a:avLst/>
              <a:gdLst/>
              <a:ahLst/>
              <a:rect l="l" t="t" r="r" b="b"/>
              <a:pathLst>
                <a:path w="248" h="342">
                  <a:moveTo>
                    <a:pt x="0" y="342"/>
                  </a:moveTo>
                  <a:lnTo>
                    <a:pt x="31" y="292"/>
                  </a:lnTo>
                  <a:lnTo>
                    <a:pt x="62" y="245"/>
                  </a:lnTo>
                  <a:lnTo>
                    <a:pt x="93" y="199"/>
                  </a:lnTo>
                  <a:lnTo>
                    <a:pt x="124" y="155"/>
                  </a:lnTo>
                  <a:lnTo>
                    <a:pt x="155" y="114"/>
                  </a:lnTo>
                  <a:lnTo>
                    <a:pt x="186" y="74"/>
                  </a:lnTo>
                  <a:lnTo>
                    <a:pt x="217" y="37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66960" y="2858760"/>
              <a:ext cx="185760" cy="169560"/>
            </a:xfrm>
            <a:custGeom>
              <a:avLst/>
              <a:gdLst/>
              <a:ahLst/>
              <a:rect l="l" t="t" r="r" b="b"/>
              <a:pathLst>
                <a:path w="246" h="227">
                  <a:moveTo>
                    <a:pt x="0" y="227"/>
                  </a:moveTo>
                  <a:lnTo>
                    <a:pt x="31" y="193"/>
                  </a:lnTo>
                  <a:lnTo>
                    <a:pt x="62" y="161"/>
                  </a:lnTo>
                  <a:lnTo>
                    <a:pt x="93" y="131"/>
                  </a:lnTo>
                  <a:lnTo>
                    <a:pt x="123" y="103"/>
                  </a:lnTo>
                  <a:lnTo>
                    <a:pt x="153" y="77"/>
                  </a:lnTo>
                  <a:lnTo>
                    <a:pt x="184" y="50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2720" y="2732400"/>
              <a:ext cx="185760" cy="126360"/>
            </a:xfrm>
            <a:custGeom>
              <a:avLst/>
              <a:gdLst/>
              <a:ahLst/>
              <a:rect l="l" t="t" r="r" b="b"/>
              <a:pathLst>
                <a:path w="246" h="171">
                  <a:moveTo>
                    <a:pt x="0" y="171"/>
                  </a:moveTo>
                  <a:lnTo>
                    <a:pt x="31" y="148"/>
                  </a:lnTo>
                  <a:lnTo>
                    <a:pt x="62" y="124"/>
                  </a:lnTo>
                  <a:lnTo>
                    <a:pt x="122" y="80"/>
                  </a:lnTo>
                  <a:lnTo>
                    <a:pt x="184" y="3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38480" y="2629800"/>
              <a:ext cx="186120" cy="102600"/>
            </a:xfrm>
            <a:custGeom>
              <a:avLst/>
              <a:gdLst/>
              <a:ahLst/>
              <a:rect l="l" t="t" r="r" b="b"/>
              <a:pathLst>
                <a:path w="246" h="137">
                  <a:moveTo>
                    <a:pt x="0" y="137"/>
                  </a:moveTo>
                  <a:lnTo>
                    <a:pt x="62" y="101"/>
                  </a:lnTo>
                  <a:lnTo>
                    <a:pt x="122" y="65"/>
                  </a:lnTo>
                  <a:lnTo>
                    <a:pt x="184" y="3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24600" y="2545200"/>
              <a:ext cx="187200" cy="84600"/>
            </a:xfrm>
            <a:custGeom>
              <a:avLst/>
              <a:gdLst/>
              <a:ahLst/>
              <a:rect l="l" t="t" r="r" b="b"/>
              <a:pathLst>
                <a:path w="247" h="115">
                  <a:moveTo>
                    <a:pt x="0" y="115"/>
                  </a:moveTo>
                  <a:lnTo>
                    <a:pt x="62" y="84"/>
                  </a:lnTo>
                  <a:lnTo>
                    <a:pt x="124" y="55"/>
                  </a:lnTo>
                  <a:lnTo>
                    <a:pt x="185" y="27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212160" y="2472120"/>
              <a:ext cx="185760" cy="72720"/>
            </a:xfrm>
            <a:custGeom>
              <a:avLst/>
              <a:gdLst/>
              <a:ahLst/>
              <a:rect l="l" t="t" r="r" b="b"/>
              <a:pathLst>
                <a:path w="246" h="97">
                  <a:moveTo>
                    <a:pt x="0" y="97"/>
                  </a:moveTo>
                  <a:lnTo>
                    <a:pt x="62" y="71"/>
                  </a:lnTo>
                  <a:lnTo>
                    <a:pt x="124" y="4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97920" y="2408040"/>
              <a:ext cx="185760" cy="6408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0" y="85"/>
                  </a:moveTo>
                  <a:lnTo>
                    <a:pt x="123" y="4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83680" y="2351160"/>
              <a:ext cx="186120" cy="56520"/>
            </a:xfrm>
            <a:custGeom>
              <a:avLst/>
              <a:gdLst/>
              <a:ahLst/>
              <a:rect l="l" t="t" r="r" b="b"/>
              <a:pathLst>
                <a:path w="246" h="77">
                  <a:moveTo>
                    <a:pt x="0" y="77"/>
                  </a:moveTo>
                  <a:lnTo>
                    <a:pt x="123" y="3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70160" y="2300760"/>
              <a:ext cx="185760" cy="50400"/>
            </a:xfrm>
            <a:custGeom>
              <a:avLst/>
              <a:gdLst/>
              <a:ahLst/>
              <a:rect l="l" t="t" r="r" b="b"/>
              <a:pathLst>
                <a:path w="248" h="68">
                  <a:moveTo>
                    <a:pt x="0" y="68"/>
                  </a:moveTo>
                  <a:lnTo>
                    <a:pt x="124" y="33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55920" y="2254680"/>
              <a:ext cx="186120" cy="45720"/>
            </a:xfrm>
            <a:custGeom>
              <a:avLst/>
              <a:gdLst/>
              <a:ahLst/>
              <a:rect l="l" t="t" r="r" b="b"/>
              <a:pathLst>
                <a:path w="246" h="63">
                  <a:moveTo>
                    <a:pt x="0" y="63"/>
                  </a:moveTo>
                  <a:lnTo>
                    <a:pt x="124" y="3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142040" y="2212920"/>
              <a:ext cx="185760" cy="41760"/>
            </a:xfrm>
            <a:custGeom>
              <a:avLst/>
              <a:gdLst/>
              <a:ahLst/>
              <a:rect l="l" t="t" r="r" b="b"/>
              <a:pathLst>
                <a:path w="246" h="56">
                  <a:moveTo>
                    <a:pt x="0" y="56"/>
                  </a:moveTo>
                  <a:lnTo>
                    <a:pt x="122" y="2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24600" y="2275200"/>
              <a:ext cx="187200" cy="354240"/>
            </a:xfrm>
            <a:custGeom>
              <a:avLst/>
              <a:gdLst/>
              <a:ahLst/>
              <a:rect l="l" t="t" r="r" b="b"/>
              <a:pathLst>
                <a:path w="247" h="477">
                  <a:moveTo>
                    <a:pt x="0" y="477"/>
                  </a:moveTo>
                  <a:lnTo>
                    <a:pt x="31" y="417"/>
                  </a:lnTo>
                  <a:lnTo>
                    <a:pt x="62" y="354"/>
                  </a:lnTo>
                  <a:lnTo>
                    <a:pt x="93" y="290"/>
                  </a:lnTo>
                  <a:lnTo>
                    <a:pt x="124" y="227"/>
                  </a:lnTo>
                  <a:lnTo>
                    <a:pt x="154" y="165"/>
                  </a:lnTo>
                  <a:lnTo>
                    <a:pt x="185" y="106"/>
                  </a:lnTo>
                  <a:lnTo>
                    <a:pt x="202" y="77"/>
                  </a:lnTo>
                  <a:lnTo>
                    <a:pt x="216" y="50"/>
                  </a:lnTo>
                  <a:lnTo>
                    <a:pt x="233" y="25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12160" y="2067120"/>
              <a:ext cx="185760" cy="208080"/>
            </a:xfrm>
            <a:custGeom>
              <a:avLst/>
              <a:gdLst/>
              <a:ahLst/>
              <a:rect l="l" t="t" r="r" b="b"/>
              <a:pathLst>
                <a:path w="246" h="280">
                  <a:moveTo>
                    <a:pt x="0" y="280"/>
                  </a:moveTo>
                  <a:lnTo>
                    <a:pt x="15" y="256"/>
                  </a:lnTo>
                  <a:lnTo>
                    <a:pt x="31" y="236"/>
                  </a:lnTo>
                  <a:lnTo>
                    <a:pt x="46" y="215"/>
                  </a:lnTo>
                  <a:lnTo>
                    <a:pt x="62" y="196"/>
                  </a:lnTo>
                  <a:lnTo>
                    <a:pt x="93" y="161"/>
                  </a:lnTo>
                  <a:lnTo>
                    <a:pt x="124" y="128"/>
                  </a:lnTo>
                  <a:lnTo>
                    <a:pt x="153" y="96"/>
                  </a:lnTo>
                  <a:lnTo>
                    <a:pt x="184" y="65"/>
                  </a:lnTo>
                  <a:lnTo>
                    <a:pt x="215" y="3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07520" y="4689720"/>
              <a:ext cx="185760" cy="562680"/>
            </a:xfrm>
            <a:custGeom>
              <a:avLst/>
              <a:gdLst/>
              <a:ahLst/>
              <a:rect l="l" t="t" r="r" b="b"/>
              <a:pathLst>
                <a:path w="246" h="756">
                  <a:moveTo>
                    <a:pt x="0" y="756"/>
                  </a:moveTo>
                  <a:lnTo>
                    <a:pt x="31" y="660"/>
                  </a:lnTo>
                  <a:lnTo>
                    <a:pt x="62" y="561"/>
                  </a:lnTo>
                  <a:lnTo>
                    <a:pt x="93" y="461"/>
                  </a:lnTo>
                  <a:lnTo>
                    <a:pt x="122" y="362"/>
                  </a:lnTo>
                  <a:lnTo>
                    <a:pt x="153" y="265"/>
                  </a:lnTo>
                  <a:lnTo>
                    <a:pt x="170" y="218"/>
                  </a:lnTo>
                  <a:lnTo>
                    <a:pt x="184" y="172"/>
                  </a:lnTo>
                  <a:lnTo>
                    <a:pt x="201" y="126"/>
                  </a:lnTo>
                  <a:lnTo>
                    <a:pt x="215" y="82"/>
                  </a:lnTo>
                  <a:lnTo>
                    <a:pt x="231" y="4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93280" y="4307400"/>
              <a:ext cx="186120" cy="382320"/>
            </a:xfrm>
            <a:custGeom>
              <a:avLst/>
              <a:gdLst/>
              <a:ahLst/>
              <a:rect l="l" t="t" r="r" b="b"/>
              <a:pathLst>
                <a:path w="246" h="516">
                  <a:moveTo>
                    <a:pt x="0" y="516"/>
                  </a:moveTo>
                  <a:lnTo>
                    <a:pt x="15" y="476"/>
                  </a:lnTo>
                  <a:lnTo>
                    <a:pt x="31" y="439"/>
                  </a:lnTo>
                  <a:lnTo>
                    <a:pt x="46" y="402"/>
                  </a:lnTo>
                  <a:lnTo>
                    <a:pt x="62" y="367"/>
                  </a:lnTo>
                  <a:lnTo>
                    <a:pt x="93" y="299"/>
                  </a:lnTo>
                  <a:lnTo>
                    <a:pt x="122" y="234"/>
                  </a:lnTo>
                  <a:lnTo>
                    <a:pt x="153" y="173"/>
                  </a:lnTo>
                  <a:lnTo>
                    <a:pt x="184" y="114"/>
                  </a:lnTo>
                  <a:lnTo>
                    <a:pt x="215" y="5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79400" y="4024440"/>
              <a:ext cx="187200" cy="282600"/>
            </a:xfrm>
            <a:custGeom>
              <a:avLst/>
              <a:gdLst/>
              <a:ahLst/>
              <a:rect l="l" t="t" r="r" b="b"/>
              <a:pathLst>
                <a:path w="248" h="380">
                  <a:moveTo>
                    <a:pt x="0" y="380"/>
                  </a:moveTo>
                  <a:lnTo>
                    <a:pt x="31" y="326"/>
                  </a:lnTo>
                  <a:lnTo>
                    <a:pt x="62" y="273"/>
                  </a:lnTo>
                  <a:lnTo>
                    <a:pt x="93" y="221"/>
                  </a:lnTo>
                  <a:lnTo>
                    <a:pt x="124" y="172"/>
                  </a:lnTo>
                  <a:lnTo>
                    <a:pt x="155" y="127"/>
                  </a:lnTo>
                  <a:lnTo>
                    <a:pt x="186" y="83"/>
                  </a:lnTo>
                  <a:lnTo>
                    <a:pt x="217" y="40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66960" y="3843000"/>
              <a:ext cx="185760" cy="181440"/>
            </a:xfrm>
            <a:custGeom>
              <a:avLst/>
              <a:gdLst/>
              <a:ahLst/>
              <a:rect l="l" t="t" r="r" b="b"/>
              <a:pathLst>
                <a:path w="246" h="243">
                  <a:moveTo>
                    <a:pt x="0" y="243"/>
                  </a:moveTo>
                  <a:lnTo>
                    <a:pt x="31" y="206"/>
                  </a:lnTo>
                  <a:lnTo>
                    <a:pt x="62" y="171"/>
                  </a:lnTo>
                  <a:lnTo>
                    <a:pt x="93" y="138"/>
                  </a:lnTo>
                  <a:lnTo>
                    <a:pt x="123" y="109"/>
                  </a:lnTo>
                  <a:lnTo>
                    <a:pt x="153" y="81"/>
                  </a:lnTo>
                  <a:lnTo>
                    <a:pt x="184" y="5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652720" y="3708720"/>
              <a:ext cx="185760" cy="133920"/>
            </a:xfrm>
            <a:custGeom>
              <a:avLst/>
              <a:gdLst/>
              <a:ahLst/>
              <a:rect l="l" t="t" r="r" b="b"/>
              <a:pathLst>
                <a:path w="246" h="180">
                  <a:moveTo>
                    <a:pt x="0" y="180"/>
                  </a:moveTo>
                  <a:lnTo>
                    <a:pt x="31" y="155"/>
                  </a:lnTo>
                  <a:lnTo>
                    <a:pt x="62" y="130"/>
                  </a:lnTo>
                  <a:lnTo>
                    <a:pt x="122" y="84"/>
                  </a:lnTo>
                  <a:lnTo>
                    <a:pt x="184" y="4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38480" y="3603240"/>
              <a:ext cx="186120" cy="105480"/>
            </a:xfrm>
            <a:custGeom>
              <a:avLst/>
              <a:gdLst/>
              <a:ahLst/>
              <a:rect l="l" t="t" r="r" b="b"/>
              <a:pathLst>
                <a:path w="246" h="143">
                  <a:moveTo>
                    <a:pt x="0" y="143"/>
                  </a:moveTo>
                  <a:lnTo>
                    <a:pt x="62" y="105"/>
                  </a:lnTo>
                  <a:lnTo>
                    <a:pt x="122" y="68"/>
                  </a:lnTo>
                  <a:lnTo>
                    <a:pt x="184" y="3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24600" y="3515400"/>
              <a:ext cx="187200" cy="87480"/>
            </a:xfrm>
            <a:custGeom>
              <a:avLst/>
              <a:gdLst/>
              <a:ahLst/>
              <a:rect l="l" t="t" r="r" b="b"/>
              <a:pathLst>
                <a:path w="247" h="118">
                  <a:moveTo>
                    <a:pt x="0" y="118"/>
                  </a:moveTo>
                  <a:lnTo>
                    <a:pt x="62" y="87"/>
                  </a:lnTo>
                  <a:lnTo>
                    <a:pt x="124" y="56"/>
                  </a:lnTo>
                  <a:lnTo>
                    <a:pt x="185" y="28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12160" y="3440880"/>
              <a:ext cx="185760" cy="74520"/>
            </a:xfrm>
            <a:custGeom>
              <a:avLst/>
              <a:gdLst/>
              <a:ahLst/>
              <a:rect l="l" t="t" r="r" b="b"/>
              <a:pathLst>
                <a:path w="246" h="100">
                  <a:moveTo>
                    <a:pt x="0" y="100"/>
                  </a:moveTo>
                  <a:lnTo>
                    <a:pt x="62" y="74"/>
                  </a:lnTo>
                  <a:lnTo>
                    <a:pt x="124" y="4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397920" y="3373920"/>
              <a:ext cx="185760" cy="66600"/>
            </a:xfrm>
            <a:custGeom>
              <a:avLst/>
              <a:gdLst/>
              <a:ahLst/>
              <a:rect l="l" t="t" r="r" b="b"/>
              <a:pathLst>
                <a:path w="246" h="88">
                  <a:moveTo>
                    <a:pt x="0" y="88"/>
                  </a:moveTo>
                  <a:lnTo>
                    <a:pt x="123" y="4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583680" y="3315960"/>
              <a:ext cx="186120" cy="57960"/>
            </a:xfrm>
            <a:custGeom>
              <a:avLst/>
              <a:gdLst/>
              <a:ahLst/>
              <a:rect l="l" t="t" r="r" b="b"/>
              <a:pathLst>
                <a:path w="246" h="78">
                  <a:moveTo>
                    <a:pt x="0" y="78"/>
                  </a:moveTo>
                  <a:lnTo>
                    <a:pt x="123" y="3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70160" y="3265200"/>
              <a:ext cx="185760" cy="50400"/>
            </a:xfrm>
            <a:custGeom>
              <a:avLst/>
              <a:gdLst/>
              <a:ahLst/>
              <a:rect l="l" t="t" r="r" b="b"/>
              <a:pathLst>
                <a:path w="248" h="70">
                  <a:moveTo>
                    <a:pt x="0" y="70"/>
                  </a:moveTo>
                  <a:lnTo>
                    <a:pt x="124" y="34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55920" y="3217680"/>
              <a:ext cx="186120" cy="47520"/>
            </a:xfrm>
            <a:custGeom>
              <a:avLst/>
              <a:gdLst/>
              <a:ahLst/>
              <a:rect l="l" t="t" r="r" b="b"/>
              <a:pathLst>
                <a:path w="246" h="63">
                  <a:moveTo>
                    <a:pt x="0" y="63"/>
                  </a:moveTo>
                  <a:lnTo>
                    <a:pt x="124" y="3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142040" y="3174480"/>
              <a:ext cx="185760" cy="43200"/>
            </a:xfrm>
            <a:custGeom>
              <a:avLst/>
              <a:gdLst/>
              <a:ahLst/>
              <a:rect l="l" t="t" r="r" b="b"/>
              <a:pathLst>
                <a:path w="246" h="59">
                  <a:moveTo>
                    <a:pt x="0" y="59"/>
                  </a:moveTo>
                  <a:lnTo>
                    <a:pt x="122" y="30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00440" y="5720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08640" y="45396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16480" y="335916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25400" y="2178720"/>
              <a:ext cx="54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5400" y="997200"/>
              <a:ext cx="640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0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3408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6468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9600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02768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5828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9032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2236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5224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920" y="622152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6200000">
              <a:off x="-1237320" y="3203640"/>
              <a:ext cx="342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grated Aperture (km^2*str*yea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00000" y="4631760"/>
              <a:ext cx="87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Fly'e E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98880" y="405720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GA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6720" y="35287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339966"/>
                  </a:solidFill>
                  <a:latin typeface="Arial"/>
                </a:rPr>
                <a:t>Hi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11240" y="2862000"/>
              <a:ext cx="78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Auger-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71800" y="214920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33cccc"/>
                  </a:solidFill>
                  <a:latin typeface="Arial"/>
                </a:rPr>
                <a:t>EU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59400" y="2799360"/>
              <a:ext cx="79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Auger-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42240" y="1650240"/>
              <a:ext cx="1121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Arial"/>
                </a:rPr>
                <a:t>Auger(S+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82800" y="358956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Arial"/>
                </a:rPr>
                <a:t>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1351080" y="1989000"/>
            <a:ext cx="5813280" cy="3749760"/>
          </a:xfrm>
          <a:custGeom>
            <a:avLst/>
            <a:gdLst/>
            <a:ahLst/>
            <a:rect l="l" t="t" r="r" b="b"/>
            <a:pathLst>
              <a:path w="3662" h="2362">
                <a:moveTo>
                  <a:pt x="0" y="2362"/>
                </a:moveTo>
                <a:cubicBezTo>
                  <a:pt x="58" y="2307"/>
                  <a:pt x="208" y="2144"/>
                  <a:pt x="351" y="2041"/>
                </a:cubicBezTo>
                <a:cubicBezTo>
                  <a:pt x="494" y="1938"/>
                  <a:pt x="718" y="1824"/>
                  <a:pt x="860" y="1744"/>
                </a:cubicBezTo>
                <a:cubicBezTo>
                  <a:pt x="1002" y="1664"/>
                  <a:pt x="1061" y="1628"/>
                  <a:pt x="1203" y="1560"/>
                </a:cubicBezTo>
                <a:cubicBezTo>
                  <a:pt x="1345" y="1492"/>
                  <a:pt x="1572" y="1397"/>
                  <a:pt x="1712" y="1335"/>
                </a:cubicBezTo>
                <a:cubicBezTo>
                  <a:pt x="1852" y="1273"/>
                  <a:pt x="1940" y="1238"/>
                  <a:pt x="2046" y="1185"/>
                </a:cubicBezTo>
                <a:cubicBezTo>
                  <a:pt x="2152" y="1132"/>
                  <a:pt x="2256" y="1101"/>
                  <a:pt x="2346" y="1018"/>
                </a:cubicBezTo>
                <a:cubicBezTo>
                  <a:pt x="2436" y="935"/>
                  <a:pt x="2495" y="801"/>
                  <a:pt x="2588" y="684"/>
                </a:cubicBezTo>
                <a:cubicBezTo>
                  <a:pt x="2681" y="567"/>
                  <a:pt x="2792" y="411"/>
                  <a:pt x="2906" y="316"/>
                </a:cubicBezTo>
                <a:cubicBezTo>
                  <a:pt x="3020" y="221"/>
                  <a:pt x="3147" y="169"/>
                  <a:pt x="3273" y="116"/>
                </a:cubicBezTo>
                <a:cubicBezTo>
                  <a:pt x="3399" y="63"/>
                  <a:pt x="3581" y="24"/>
                  <a:pt x="3662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56C-3750-4D08-8F83-DF0822317780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F0D7E-60D2-471E-B8C2-BE8B9B12B365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755640" y="362520"/>
            <a:ext cx="612936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ranklin Gothic Medium"/>
              </a:rPr>
              <a:t>Gravitational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r 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URIGA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ini-Grail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UAL R&amp;D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OG (Nautilus + Explo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) Interfero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eo-600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IRGO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IGO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ISA Pathfinder/LI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arge Underground Interferomet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860720" y="2349360"/>
            <a:ext cx="397548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LIGO:  260 M€ (US co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Adv.Ligo: +210 M€ (d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VIRGO: 85 M€ (cap.inv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LISA: 200 M€ (ESA co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LUI: 200 M€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188D-2D27-4EC3-8F4F-FB1CEB25F7A3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02302-24F4-474B-BCEE-0ADB3925B709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11280" y="397080"/>
            <a:ext cx="69832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ranklin Gothic Medium"/>
              </a:rPr>
              <a:t>Low Energy Neutrino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ranklin Gothic Medium"/>
              </a:rPr>
              <a:t>Proton Dec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V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TF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orex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NO 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LACIER    (100 kton LAr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ENA          (50 kt scintillator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MEMPHYS (Water Megatonne)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58920" y="4005360"/>
            <a:ext cx="223056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Ultimate price ta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500-800 M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055960" y="5805360"/>
            <a:ext cx="23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~ 2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2340000" y="5157360"/>
            <a:ext cx="0" cy="576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03C-A4FF-48BC-86DE-D1E587800707}" type="slidenum">
              <a:t>3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F480B-CFFC-401A-A99A-FCBC2F9C33FA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process of cooperation and concentration is ong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ropean community has a lead position in many field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infancy to maturity: the past 1-2 decades have born the instruments &amp; methods for doing science with high discovery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lerated increase in sensitivity in nearly all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oadmap will reflect this process, make the physics case to funding agencies and the outsid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8160" y="5445000"/>
            <a:ext cx="839196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 live in an exciting period. Lets make use of the chance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23C8-31C1-4BEF-9472-541D975153A4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62591-1B88-4513-BC7F-806C650FABC6}" type="datetime1">
              <a:rPr lang="en-US"/>
              <a:t>07/31/26</a:t>
            </a:fld>
          </a:p>
        </p:txBody>
      </p:sp>
    </p:spTree>
  </p:cSld>
  <p:transition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7777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Open sessions not clearly enough advertised as open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ecommendations  reasonable but often too minimal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ecommendations did not reach the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hey even did not reach the presenters (if not inofficial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easonable recommen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M3Net design study profited from PRC recommendations via communication channels between SC and Bruss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C translated PRC recommendations to a support for IL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ommon understanding among the PRC members and style of discussion form a good basis for roadmap committ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4360" y="260280"/>
            <a:ext cx="770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Comments on PRC Work and Impa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868-44D6-44AF-A582-CEE5433C298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5771A-9EE7-4758-B4B3-95DBF18465A4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7777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ore transparent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pPEC web page   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https://ptweb.desy.de/ap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raft of Roadmap will be placed to the web for discussion and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pPEC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pPEC n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Will improve will advent of  ApPEC secretar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esentation of plans to the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AUP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his Town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oadmap Meeting in April/May 2006 (see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xchange of information with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loser contacts between ILIAS, HEAPNET and ApPEC P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360" y="260280"/>
            <a:ext cx="770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Plans for Improv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C5D-F5CD-4005-BC37-EA1FE6BDD81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E6451-6AFA-4F01-ADF5-124BAF30BC15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56944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eering Committee has charged PRC to write a roadmap on Astroparticle Physics in Europe over the next 10 years, with a focus to the next 5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omote astroparticle phys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imulate coordination and cooperation within the European APP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epare future decisions on National and European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47640" y="476280"/>
            <a:ext cx="604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Astroparticle Roadma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6307-6382-4C55-9B2D-9C439F10B08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4C336-DE5F-4AE6-B347-7220F7457258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ressees of the roadmap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tional funding agen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uropean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l physics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ur own community (shaping and rationalize our view on goals and prioriti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EC roadmap will take note of existing national roadmaps. For national roadmaps being written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exchange of views and pl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put to ESFRI and FP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ose connection to ILIAS, HEAPNE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Astroparticle Roadma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9961-F18D-483D-8097-776F890FEAA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4C385-1000-4A4F-8648-F125EF21E23B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oadmap intend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ll the field to the outsid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mote coordination and co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mote the development of 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dentify critical points for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oadmap will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lare decisions w. r. t. experiments and techniques which have to be taken by the cooperating/competing expert groups working in the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9640" y="333360"/>
            <a:ext cx="813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What is the intention of the roadmap, and what no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1864-D49A-417C-BF4E-6B9C12DE84D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0B92C-D7D6-4200-AF7D-3C2FD247918F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38102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k Avig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 Bernab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mas Berghoe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onid Bezruk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erre Binetr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s Blu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rsten Danz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z v. Feilitz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rique Fernan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rner Hof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Iliopo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i K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32000" y="1628280"/>
            <a:ext cx="3809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olo Lip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el Martin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onio Mas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oit M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esco Ro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Rub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ir Sark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enther Si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ard Smad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gel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ian Spi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n Wat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C17C-FBC8-40CA-9111-76C399BBD6A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8C0F8-F59F-4EB3-A533-E255FBDA632F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17:14:56Z</dcterms:created>
  <dc:creator>csspier</dc:creator>
  <dc:description/>
  <dc:language>en-US</dc:language>
  <cp:lastModifiedBy>nb29</cp:lastModifiedBy>
  <dcterms:modified xsi:type="dcterms:W3CDTF">2005-11-25T09:20:38Z</dcterms:modified>
  <cp:revision>55</cp:revision>
  <dc:subject/>
  <dc:title>PowerPoint-Präsentation</dc:title>
</cp:coreProperties>
</file>